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81FC-3B0B-4B1F-822E-F702C75804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79E3-8F28-46F0-85C5-F00813CB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8BB754-4DCC-4863-975F-EA97CB4E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F14C28-9A58-43C0-83A0-FF8D173A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2D9CCA-FBD6-4FDE-B814-8105A13D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B07F69-78C3-4FEA-A2A9-55CA969C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1FFAAF-CA31-4997-ACCD-4AA1CD2F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D1C70F-FAAF-456B-9923-F20BCB6C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10AED9-6063-458D-9EAC-1910D13D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FF02B7-D6FE-48E7-B551-4F3D19BE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F74B4B-E67C-482D-8941-DCACC97350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D0451-3684-48EB-A631-069BEEFD0F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D82D-6E14-4278-A021-3859AC6C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97A90-D38F-4962-A0FE-BCEDDEB5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9894D-511A-47F0-BB7E-EDA552EA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483D0-D0E0-4ECA-B38D-F84259AD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6FE40-E59A-4F36-87DD-2F62C1D8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036BE-3B6F-4E49-9D1B-EB87D177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A1547-319A-4C7B-BCD5-6EEFA952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16B3F-3663-48AB-B541-7923348C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8DCC9-753F-41A2-B3C8-F7F3BD87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46BF8-731D-4729-B66A-8B9FE77C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22577-595C-4BD8-860E-D6A0EC65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2FB3-3A02-4DE2-A307-35D42FF90C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513A9-98F6-49FA-B000-F4CD79F955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08EB48-C4B5-4D9F-84B9-901A760C87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D1161D-90AB-4291-B74A-914DF505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F8D3E8-6B84-430D-BF45-B18CA777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3862DE-600A-4081-88D1-EA9B930E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1985C7-BA36-42D2-9829-B5D7A6C1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36F6C4-26D1-4942-B978-E6DBD758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F9BA73-D6D9-4998-A677-18335E8B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D47CEC-898C-4471-9508-730AAA33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6D0D60-938E-40B4-B9A6-E1896067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5A9E3-55A5-4B60-85D8-8F01C57084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E1BA68-DFE3-4F66-8BA8-21E20391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881D99-1F43-4998-BD43-7FFDBFD9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4CF434-21A1-433C-930C-9FCB87CDA7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15820-708A-4D79-BD19-3A48E9719F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97966-723D-4B79-8C93-054FCFA0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826AF-8273-408E-9567-6379725B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41863-EB4E-4F3B-A8FF-CFE6EC1D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E3EE2-08CE-4F26-8C40-B47797C1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8758D-0104-48D2-8DCF-56596EEA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9B683-AB85-4BD7-94D6-51F33BEF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40433-0E02-4EED-988D-B85045B4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1608D-0388-478A-8980-3772818B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9F564-0D1D-4D9C-9C98-7CE4E3DB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37F6A-6699-4050-AE95-6167FD39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A7DAC-4F72-4ED6-B120-EF71058F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9EAE9-EA73-4807-BAD0-C4639D4A94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0FC4C-B327-48A0-B7FD-14A124C9B6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7923C-0FEA-4F24-AF10-DAFC88FB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EE6AA-D0FF-4681-A204-5F41FED5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18B72-8E9A-4420-BBAF-377135C8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22FF2-2676-4C14-B4AB-76A4051C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A98B0-3F16-44C0-8FEA-C71D68F8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CA345-7130-4B47-9DFF-6322D9C4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9F0EC-1070-452C-8209-5FC01E0A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1B1B5-81E2-4526-B0AB-1FB9C465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490E9-5EDF-46A9-AB58-933FF396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A2904-DD32-46FA-BAA9-96A33AA3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AEB5E-61A2-4412-B38C-E4094B83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BD468-517E-40E3-8BE2-4D9665DCFE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EA5E2D-1E65-4A37-9F5C-0434AB6F8D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E3D157-4336-41CD-9F84-872193B5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27A3E7-ADB9-4B12-8A33-1705B98A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1EA3E-FD40-4228-B1C1-72B75D68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2A6EC8-FC32-491E-8DFF-842CB180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026D04-52DE-4B69-9348-17556638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2D851A-D733-4B9E-BF38-29BCB142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33D21D-2F68-4940-A627-031A3806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0DE5B2-D1DB-4A1B-9080-03A42A63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AAF6A1-4E87-4D0C-9053-0C57E0E7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172450-929D-4055-8DE9-5CE61F71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B6BA2C-F2D5-4AE0-81B9-79B0ADE4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85649D-E937-4211-B5ED-EF0E4E34D1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27DB41-18A3-41D0-B1C6-67B59DB92C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EDB5C-88D0-454E-9025-B0301AF9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DADBBF-ED34-4FE5-93E1-956C7C68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151CD5-7A9B-41DD-9428-DE28053A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FD8C1C-4BDE-4BB9-B3A0-C8BE7019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2724B7-505C-480D-813C-8141A088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E7763F-040F-46AE-A86B-6A48F033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39F1ED-E771-4FA2-BC01-EAD10427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7E2982-D074-4486-8D9C-3AA1FA8F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F6EE5E-15F8-466A-B178-A978A482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1C675E-4F01-440A-B037-0BAB9E8C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64E55B-9BA2-4FF6-B24D-B24649FB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CAB58-CEC4-458C-B968-FBA15273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7DFE11-DEE4-47E1-A960-A7AD28F59F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E8800-3DE0-457A-A796-E2266B5320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8AE68-055C-4494-A109-62DC25AB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8464D-4477-4C76-9761-A8969B6C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B2593-360E-4380-A145-FDCEF625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19C59-5E5E-4EBD-881C-2E939E65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18537-9297-40C4-BEF2-E398A4E1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90B3E-DB4E-4D11-988F-65603AD5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95A05-AE78-4D12-9828-F97FE7D9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DE26F-075F-4D9D-9FE8-0614157F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EC856-938F-4153-994A-803037E1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B183B-CFB1-4646-AE1D-3CBC4D29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C8114-5BAE-496A-9B30-1394D696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AAE36-A060-4376-AA39-32CDD94760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F36512-7779-4D79-908B-F6A3D2612A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01E6CB-2B5A-41C0-8632-712197F8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6829BE-BB9C-4BAA-A3FA-B3E3E22E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BFDD5C-1CB0-4EA6-9085-9F52915F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41F4B3-4E3C-4CE5-AC37-03344543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AB7250-5D6A-4092-B3F8-1238265C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8FA42C-8D77-475D-B58C-061115DB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3104-EFE4-43AB-A0EF-35AA0779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1DCAE-4152-4A28-96C3-2358418D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58AF8E-C89B-4EC5-9E70-6E1657D1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B9E104-4D89-43F0-A543-E2475005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8460AC-2737-4F14-B6A2-104E300D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BB0449-49BB-47C0-A12A-0C5B676E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FC5698-961B-45D0-8FE6-3CB4FA344D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94AE15-6CD6-480A-B1E7-74B7778465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636C70-2586-41DF-9A99-9E592F95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366A09-F8D2-48A0-A221-9DEDEC80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5F0E1C-1EBA-4BE7-9C22-760E0298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1647FC-C517-4DB6-B99A-0A19A9DC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6DDB6-5AA9-434D-B4DB-C9E1F0B5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FFBE29-864B-4129-BBFB-9A87F880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E24CFB-2B1A-451E-8F9D-1F708E83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823715-13CE-421D-8F9E-9BE5D254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C5E24C-8745-461B-BA37-79635782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854502-6486-411F-98E6-DC1CAA27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446023-7D5C-40F1-B600-CE6D4567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9E0644-9AAA-4394-B5D6-58AE62EC52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9B070-7694-469F-9471-7850E7DA38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35FF1-AD99-4120-B685-4A796406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5B893-BD3B-4B5E-B626-6956F715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E10BD-C1EC-4DCB-B44D-1120BABE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34C60-FCBA-41BF-9575-ED5AFD14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5D46A-4369-4AB5-8C16-2648714D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30D54-A9B6-4C99-A3CD-7695FE58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47622-3E08-4AE6-9973-18FD8255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8C5DE-EBB6-4CE8-842C-B813E2D1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AE7CC-0C5E-4AF4-A9E0-8CF66D59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A379E-227E-4C71-A8E8-6A80AB4A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AD390-7DEC-45E0-8636-D809073F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E4F63-55C9-42AF-9CB0-1E77509003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2C77B6-874E-456F-B77B-5A547C74DA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25065-4D63-481C-94C4-490287CC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1BF16F-5BC3-46F2-B2FC-A294C01B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0D1836-0ADA-4447-8543-89A95ABA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AD6796-CD03-4961-BF0E-62972A0B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82FF39-0274-4662-BF7D-3AEC8B2B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CFFC3C-14F1-40ED-B37D-978F0F35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4E380D-95F1-4FA4-B232-F31D800C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E22BBA-BACD-40E0-A660-4FA1127B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D72FEB-FFDA-465A-A0EC-EF652456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A4D90B-2BB2-4569-A865-79D5F13F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567605-A63D-4A0B-8C51-3DD31728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B7098-6D36-4E23-B174-90922D9DFB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A75D36-EBE2-4676-9516-7EC5F37B05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A776BB-2C93-4E80-9DE2-2D539E9318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A5D510-33C0-4EF7-898E-47DFECE8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ECFC773-DA24-4911-AA5D-B5C3BF1D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6B8B72-C2DF-40D0-9BF8-C22C41C9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C7F584-13A7-4546-AF39-463A6CD0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E08C0A8-D0A1-4ED7-A61B-44909368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CA2E6CC-8415-4451-9849-C046D6B9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F26925A-C8A4-4AFE-98AE-FDD8CB78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A3C858-7855-472C-8D02-63E08143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032DFD-4B90-4976-AA20-1FE352FC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521DEBD-1E79-40ED-93E9-4EF5349E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AF2A16-7B73-4C77-AAAC-139596C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50B9C7-6D18-4C28-A4EF-8ED9D585FD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F3FD6-FA9D-4CEB-8582-D478B2387A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C67D05-C94E-41AE-900D-7096F2D5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142AF-860F-4C1B-837B-D4EC0A53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DD1C2-A059-429B-9AC4-8F3BC9FD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BFEFB-CB0C-4B45-9C7D-7D1F805B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27FA5-1101-4746-95C8-B20F5308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D1DC0-9824-47DD-A9EE-1DC23CEF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6F7E13-13BD-451E-A3C2-0DF7D90B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AB5DD-965A-473C-A2CD-43767341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597B0-E215-430A-AC0F-10CD3999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D0102B-5F95-4379-AEBD-1C6F1742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2142C-9411-40F1-A7A4-7AB88AE7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74B051-9489-455F-B577-622963DFF9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B82FC0-18BF-42BE-B1A5-DA62194842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F3E3A3-E73D-4D5B-ADF9-6EE82A6D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2CF122-2395-48F3-A3B0-BD8C80E7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20CEA7-4DCA-4C57-A064-216FCB51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DA7AA0-B0A8-48F0-A821-824431B6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68CD02-31C1-460F-A63E-1957AC3B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3F8DB3-C2BC-4B96-8DD5-EBF889ED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B49260-0692-4712-B67F-F15C7FD3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213BBD-1410-4208-B7ED-9BD4A39B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5D0E2E-AE12-4C41-9C80-F425E623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F36F7D-B2EA-4140-A11F-54D309AF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ACC33A-5159-459B-A399-314FBB39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C83EDB-774C-423E-B7E2-D8C0D96848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2F95824-5BBF-4878-935B-A33DB8595F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DBA1B68-1A51-4CEC-A4C3-CA959377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43387FA-68C6-4A5B-9ADA-4BD99CEB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E75394-0BE4-4FB4-9FB6-FE42C3E3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48361EA-95F5-439B-AC22-A69B8E8A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949740D-8C3B-47DF-9D1C-B3844B8A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FC4E98A-3373-44B8-818B-2BB1C4CC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01BAD3A-6D11-4892-9B1E-50E4FB52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5A4AFA-DF57-41C3-8FB1-45EFD5FB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F19D483-D5BE-4BDA-AA40-C1DB4397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938D330-0657-4AAA-BC8A-63320A38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133CC6C-0C7B-4AA8-9B6A-47844DE6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3F7333B-920D-4C82-A3CF-401AA22EF9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4C15B-ED0D-4DBB-8267-060297308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45205-7113-4430-ABBB-0AC73BA9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58AA23-317C-42A6-8176-326E8DE7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F453BA-1C06-4527-911D-B5964810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749CE-DFF2-4FB5-8E96-D49F1934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EC6AE-57FC-44F7-A1C9-E3722E65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8CD0B5-4051-4901-BC34-771B2CF3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F8961E-A768-41EF-98D1-ACBB3F53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BB4FCE-29DE-4975-8C5F-D3EBD771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9E54E-CBF8-4D9F-B73F-98C5175F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576E3D-FDD5-4AFF-B6C6-4FAE0567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50826-1C8D-4CEA-9590-CC53EF88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DF0F-07EF-4692-BC3B-293B4BCE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BE7A1B-56BE-4D53-9142-D29BBFEF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0FBCC-05FB-4330-B01B-5D144602D7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CA0C7E-9442-4113-81AD-04B53B4E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04142-E9B6-448E-A6C9-F1146554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D12DA-137A-4FB1-BDDE-C73BE5D3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A084FC-3753-4634-893A-E727E3C5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74252-E498-45AD-B69A-1A70CB9D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7D9DC-6086-4ACB-91BB-80F36F31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1F1BE-CCB8-468B-BBF9-E75C8E3D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CAF61-F6B0-42F9-890F-B797CEB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F9C3C3-F095-4C50-B5A4-F64DBC05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8A8C0C-613F-4A2C-8D35-5C212126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9F74D4-5366-47E6-B83F-C8CA20DD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CCBBFC-9FD1-46AB-A8D2-DFDEEB35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F31D2-94C8-430E-B6CE-A0C8216F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90A75D-238C-46AF-8FEA-08841064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216754-AB4C-4181-A2C9-741AC975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F94775-F8D4-4965-8347-BB4C4AAA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D89184-DF3D-4F3D-AD43-3A452648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9AE05-6E38-465A-B1EC-26C5500F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B8C4B4-3F6D-478B-8A08-748B5545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05FF6B-E4BC-446E-B17B-098C8E33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F19C5D-7662-4F90-A74B-5CD1E250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4C3B6C-49AD-48CC-9B8A-3BB271E9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A82A25-EB87-4EF0-A4C9-93E66827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8791B-2A6A-4C02-BB4A-1BC8BFCF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AF82D-7B79-4084-B26B-64B6CFF2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117F2E-056B-4597-A3C9-259D5DED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05199B-45B5-408A-89B1-D2926C8D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9E53D0-597F-4619-AE12-2EE7C3A2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5661E2-3E6E-4AAA-947B-C0EEBAAA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78F6D-DCB0-4323-B819-503250CA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CB029-9F33-4D41-86C2-A7940BAA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263348-FA50-4AE0-8F1F-7D31329A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CF3AF2-00E1-49DD-83DA-80628A23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59E95-64BB-45E5-A73F-77E74393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FEBEB-21FC-4C88-A6D2-A3BC3706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3C5542-CE25-4370-80E6-90BAEB33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6761DB-2842-4C27-95B8-B8B970D1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1EE45-2B6E-4F20-9867-241BFD26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F56676-5594-490B-AD8C-E490EE75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2BED84-EA83-4FBA-BCD9-20608103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C35576-66D6-4815-949D-EB7A9858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EE8635-A7A4-4B6F-B613-BC950449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FDAD5-D155-4307-9A5F-385972C3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D9F7EA-7C05-4753-87AD-5FF9A989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B28D95-27C8-4B53-B295-98FAEB96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316A3B-CD26-46C4-8853-8FFAFB6F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EADFE1-8CFF-42E5-8F8E-30783481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0A3188-C852-4338-957F-35192672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98E297-7291-4C7D-8446-B14B746F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41D6D5-86CB-4E82-A441-B4CB5DAA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78B883-1603-4BD9-AD22-7014A1C0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4A679A-0810-42EE-993A-1D3CD364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C906D5-A7C3-448F-AC94-4DD8627D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A7F14-DFE6-4D25-B8E7-68299CA7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670FDA-8EA0-41FE-956A-8E006642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1702EF-E240-458E-ACCA-2FFB6F36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C63011-279D-46D4-B59B-C9305AC8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AEF255-8B86-4656-83B6-DCAB8A5A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9A4815-A359-449F-B276-55632492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63B0C0-CF5A-4942-B3D3-9D67744D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06884C-7496-4815-81EB-89200C2D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E61180-4CBF-475C-AB22-E989FDE9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04975A-4A9F-48F1-9C30-7183B1C8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A97AA2-388B-46C5-BA1D-B71CB84B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E1499-86CE-41E6-886D-74BF0D77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7C4B09-0B99-4C14-9742-B2A14128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1281BE-287B-4316-A13E-4864E6F7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9A52E0-F823-4313-B73D-D65A9B9C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9638A1-CA9E-45F6-A20F-AE5945BC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1C0FA7-4ACE-457E-AF0D-1509C69C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9ECF60-D9A8-46D4-94EE-F639CA3D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892FEA-C721-40F1-B1A2-5DDE4959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C87971-A101-4D86-8BA1-690BE68D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0A942D-AF72-4F36-82F8-731F0980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A44988-02C2-4256-8960-00A75B9B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90D07-222E-4047-B93B-8B82245B6B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0F0FAE-8314-4A77-8A83-4A2CC634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FC0CD5-199C-416D-8226-2CA6681A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B7400B-2A9B-4563-A782-1C53A4FA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39B3F8-2802-4672-99E7-13FE47BC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CDC700-0B00-4911-8615-CC8C490F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111737-128C-4BF9-9411-7A73EA23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C115C4-6BD7-441E-8002-5A10E514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532F5B-0BA0-431A-B074-EC18AA2B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B37C93-6E09-445F-98B9-D7929A88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5F121A-380A-4F72-B86D-308A9C12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59F64-18C7-4E0F-B215-7930FB1D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D2297E-CBD7-463E-9CD6-8EF82370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7AE27C-AE59-4D55-8567-36F05760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6649C6-CADA-4244-8C0A-90AFD361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D1181A-8700-4EC5-B2DC-9FC2BA57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7340C5-E9D0-48C9-9710-A40F0E4F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A8D248-16B4-4D5E-B380-3E62D503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F82A9B-D75B-405F-95DF-72EF8ADF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1EFEC2-DB6B-4F99-AB46-F9178E3C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6ED189-54F9-44D1-8686-189E16AF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9E9340-BD40-423C-A1D8-291117B1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E214-30DE-4F58-9DF3-13F0A191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CBCF42-0EF6-4D46-85B1-3ED107FF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72AA66-1C4C-4E87-A935-5B6A67BC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686642-AF25-4279-BA75-09AFCE1B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151B43-A9A7-4AA0-B06F-88F062CB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3AFD94-8768-4EC7-B91D-7B303A93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45AB88-0572-4B4C-8AC6-803EB663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72905E-13D7-408C-8EEE-D5553103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320439-6023-41A2-9F13-7724F521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96C964-DAB9-4388-8DBF-C01E9CA8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AD93B0-C505-4A80-83DE-4BA37DA0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92FB-EC22-415E-9E60-7182E65B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D2FF-FD34-4232-A612-B65975BB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B0D619-4BF9-4BE7-A70E-1EDD60D2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3FEDA4-4868-4256-A028-882ADC90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0E4CC8-D553-4C66-8E33-E62C9FB6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95C13D-6A84-4241-8280-B2058D82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A9BED3-598B-45DE-85D2-6FAB2BA1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D1F954-49F1-4570-AA2A-D82BC909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78D26A-0951-497A-9617-9A04B6B4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A34411-68FF-4E40-9383-08FDDD1F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0D83B5-EC82-45EA-9828-708C75AD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3CB6A1-F368-4981-8A0C-C96DF5C2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A5919-5E76-4518-883E-5458E79C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C57A51-1159-4399-8A7B-724AAE34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EC58DA-2540-4B4D-83AD-6B13AE3F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EF3048-A7D9-4DDF-A47A-638F809B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979760-82F3-4473-9D39-23E5CCCA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FF184B-0281-4B7B-A93E-BE9EBA33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114E56-A07D-4C7C-AD5C-00247DDE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8C932C-98F0-4362-9D66-DBABA9D3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682D17-DEE7-49E5-A3A6-F978D724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B60518-5785-4DC5-A942-B3EBEDC0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DC2F61-E65C-466E-BA4E-DE1BD6AB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9244-2DDC-4A03-9BCB-E37B7A8D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55FE7E-B0FF-49E4-B0B5-AD857B3F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99B19F-EFB2-40B4-AEBE-D11BEE5A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735E14-4D94-440B-8287-3546564C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6298C6-BE6F-4CBF-8D9D-87DAE8DF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CE5163-C766-44D6-8E5A-5B41EFED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3917F2-AC34-4516-A19D-A458F54A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92BFA3-4DDC-4427-ABE6-67D63B07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D586F0-5455-4BE5-878D-E585F97D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1A917C-7B33-467C-974A-C1E36D4D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394253-F46F-439C-815A-AD58BA1F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7A37B-3779-4027-88E1-BA6183E6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3EE17C-88ED-4B64-B4F4-10DC747F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668262-FE8D-4301-9FAC-2A10B920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C4EF4B-5E87-41E7-BB6E-67FC3BC8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DFC7-552B-4539-87CA-BA969946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A791D-F906-464D-99B7-0E586876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E61C-D88F-4FB2-82E4-B49EBFFA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1658A-0C04-447B-AE65-2D1CB464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AE4B-46C3-495E-95EF-6B99FA8B26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C9DD32-0E58-4375-839E-A240B70BBC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095C-B586-4111-A6A1-4253CAA6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B9F6D-DCDF-4FC5-8DEA-650E273A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9B822-4F76-4D07-AC59-EF5E1DB4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68C32-EB1A-4D62-81FE-B2AA8A82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E547D-14A6-49CD-87C5-D4B49247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817DB-29F2-4FBD-B801-F37013E9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65BD6-92FA-4DB3-833C-2559957B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B6FD5-B7EC-4DCB-813B-F67E4484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BC2A3-CD8C-451E-A167-382A4D58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16E72-2AFC-40A8-A513-AA7A4A41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6F8EF-44FC-4AFF-A97D-DC20E1CB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11533-4A78-436A-BDA1-09A2FB00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E45B48-8A26-4205-A378-B47F95A340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6CE991-7E4B-4237-A010-746E24CE64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B31FE5-A148-45FB-8B4B-2DA3315B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CC6ED1-4048-42B3-BD5C-98DB3F0D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4DAEA3-DD4A-48D7-9678-75F4EC90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22099F-4169-4F9B-BA39-1FF595F8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D5C28A-DE8E-44C9-8C3D-7DA5C299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52F73A-55E0-495C-BBD9-4D1A8760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ACB227-7506-4FED-B7C9-941E7695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7F26A3-808D-435D-8C52-B43983B9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47F36-101F-4B0C-8EF6-E464F1B9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F8D893-0AB7-4CCD-A8D0-ABBF11E9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76BE5-2A9B-448D-8502-42EA373C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062979-6839-454C-8F03-075830056F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9BC61-26E0-4C00-9257-E825486A04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6EC80-CB76-45AF-9E0C-AC8A881B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A0EE1-C02D-4EDB-8576-52F113F9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F0427-F845-467C-908F-5A01D607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1724B-D853-4C0C-8AFA-E7BC78EF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79690-325C-4F36-9D6C-151BDACC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B06ED-4661-4596-908D-0750FF04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3F4A9-C39B-4423-BB53-84011441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E8ADC-664D-44F6-8DA1-C0F303D9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89DF7-FBD5-4A2B-AE39-1B3EB266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74ABF-0F75-4581-B465-330B0923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5117F-B983-49CC-A038-43AA9FC1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F5B1E-E8D5-44BB-9A88-81D217CE9D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98B1C-BCEE-4233-A1F6-59BA45B1C8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5CBDD-4950-4AC2-BC7F-371A9949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9C739-3EFA-4E32-926A-2A1C2F69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66D48-A1A0-490B-BC41-0B643B27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04465-E77C-4CA2-8E89-CDF0D5A0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B0F2-0F24-4788-9D66-DD2AD55D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F5EDD-8C6D-489D-9F7A-EA1AC857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133DE-BDE6-4F73-A900-B7864D50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B912F-0ED8-445C-A73F-309BEB4E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ECFAD-9136-4E20-AB70-CCD64EA3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7F7C2-2E79-4F90-871B-871604A4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3F8F4-CD39-4F0C-8D35-0C83A6A0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FE235-299C-424B-995D-65EDC8FB40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716FF6-704B-45CD-B4F3-CDF8836A3E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718995-3628-47F1-8C26-F8D57A63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A16770-6FD2-48D9-8F72-50414983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276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277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277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277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277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277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277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2184-59DC-41CE-B836-62B94532294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4474-5952-4B4A-9DDE-A2EDEB43AB5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B668-FE8D-49D0-BA23-7099C06BDA4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3C96-2CBF-4EF6-82EF-A553848CC76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2659-5ED9-4EA3-B51A-92005FBBA6A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FDA1-5D89-4DF9-A341-BD5CD39F6E4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F283-23AD-4313-89D6-427FDAFCCAF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3B64-D14A-4DC9-872B-ADF951E6ABD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AE82-8B18-4FDA-A287-2748E761263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9A64-5327-4F93-ACE1-0278C3EB94D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3CF3-A490-421C-9660-B0DD94CA4B9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E461-EE4A-4302-AA02-AE6001CE4A2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B61B-7DB1-410A-A714-63A1066AE23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1688-51B1-4FE8-8A50-52A23219A8D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3F2F-7408-4200-A4AD-C0AF698B564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26A1-2970-4334-ACDB-7685B7A398E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8D37-E27B-4A36-BBFB-7BB452EE538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BF95-547C-4F16-9B73-2D9CB79BD7E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6A37-58DE-4A69-89DF-C4823E87A34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0E2F-5B0D-44B8-8988-A22257EA0B1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6F1A-0245-4FB1-9A6A-A7000B50078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0B3E-599D-408C-8F46-B521630E314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B239-DC04-4BEC-BEC8-3CFA0BD6562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74A8-1CC1-40E4-A606-9D9A2550F99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9D8C-FEEE-4DDD-BDBF-B3C053272F5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229B-790F-4B6A-8535-F9E3988A61A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BE29-AE7D-4DC8-AF1F-DAA44B3BC3A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8999-2149-49E4-A632-D8BE2FCD19F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5D48-B56F-4957-9655-927CB66C482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7A9C-B1F0-4446-A29B-F241E0B8411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379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379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379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379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379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379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379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40D4-15AC-46CC-9736-549C0E1690D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0435-0A64-4B81-8157-10AE46FC71C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EA79-8A07-4F4B-9D60-1B8B3FD3849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B03C-4778-45CE-B3C4-82038C6E0E4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0717-A781-4CD9-936F-B0793CB9573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0F23-966E-4062-8731-DD71CB42A22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8673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8674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54936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法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1547640" y="19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倒数的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2"/>
          <p:cNvSpPr/>
          <p:nvPr/>
        </p:nvSpPr>
        <p:spPr>
          <a:xfrm>
            <a:off x="1529280" y="2224440"/>
            <a:ext cx="32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倒数是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或（     ）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3" name="TextBox 5"/>
          <p:cNvSpPr/>
          <p:nvPr/>
        </p:nvSpPr>
        <p:spPr>
          <a:xfrm>
            <a:off x="826920" y="15573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写出下面各数的倒数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04" name="组合 27651"/>
          <p:cNvGrpSpPr/>
          <p:nvPr/>
        </p:nvGrpSpPr>
        <p:grpSpPr>
          <a:xfrm>
            <a:off x="3267000" y="2048040"/>
            <a:ext cx="1892160" cy="815040"/>
            <a:chOff x="3267000" y="2048040"/>
            <a:chExt cx="1892160" cy="815040"/>
          </a:xfrm>
        </p:grpSpPr>
        <p:sp>
          <p:nvSpPr>
            <p:cNvPr id="1805" name="文本框 27652"/>
            <p:cNvSpPr/>
            <p:nvPr/>
          </p:nvSpPr>
          <p:spPr>
            <a:xfrm>
              <a:off x="3267000" y="22287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.2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6" name="文本框 27653"/>
            <p:cNvSpPr/>
            <p:nvPr/>
          </p:nvSpPr>
          <p:spPr>
            <a:xfrm>
              <a:off x="4654440" y="2403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7" name="文本框 27654"/>
            <p:cNvSpPr/>
            <p:nvPr/>
          </p:nvSpPr>
          <p:spPr>
            <a:xfrm>
              <a:off x="4647960" y="2048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8" name="直接连接符 27655"/>
            <p:cNvSpPr/>
            <p:nvPr/>
          </p:nvSpPr>
          <p:spPr>
            <a:xfrm>
              <a:off x="4663800" y="246672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09" name="组合 27656"/>
          <p:cNvGrpSpPr/>
          <p:nvPr/>
        </p:nvGrpSpPr>
        <p:grpSpPr>
          <a:xfrm>
            <a:off x="1375920" y="2698920"/>
            <a:ext cx="2551680" cy="815040"/>
            <a:chOff x="1375920" y="2698920"/>
            <a:chExt cx="2551680" cy="815040"/>
          </a:xfrm>
        </p:grpSpPr>
        <p:sp>
          <p:nvSpPr>
            <p:cNvPr id="1810" name="Rectangle 2"/>
            <p:cNvSpPr/>
            <p:nvPr/>
          </p:nvSpPr>
          <p:spPr>
            <a:xfrm>
              <a:off x="1375920" y="2860560"/>
              <a:ext cx="255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倒数是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11" name="组合 27658"/>
            <p:cNvGrpSpPr/>
            <p:nvPr/>
          </p:nvGrpSpPr>
          <p:grpSpPr>
            <a:xfrm>
              <a:off x="1701720" y="2698920"/>
              <a:ext cx="785520" cy="815040"/>
              <a:chOff x="1701720" y="2698920"/>
              <a:chExt cx="785520" cy="815040"/>
            </a:xfrm>
          </p:grpSpPr>
          <p:sp>
            <p:nvSpPr>
              <p:cNvPr id="1812" name="文本框 27659"/>
              <p:cNvSpPr/>
              <p:nvPr/>
            </p:nvSpPr>
            <p:spPr>
              <a:xfrm>
                <a:off x="1982520" y="3054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13" name="文本框 27660"/>
              <p:cNvSpPr/>
              <p:nvPr/>
            </p:nvSpPr>
            <p:spPr>
              <a:xfrm>
                <a:off x="1976400" y="2698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14" name="直接连接符 27661"/>
              <p:cNvSpPr/>
              <p:nvPr/>
            </p:nvSpPr>
            <p:spPr>
              <a:xfrm>
                <a:off x="2001600" y="31176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15" name="文本框 27662"/>
              <p:cNvSpPr/>
              <p:nvPr/>
            </p:nvSpPr>
            <p:spPr>
              <a:xfrm>
                <a:off x="1701720" y="285588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816" name="组合 27663"/>
          <p:cNvGrpSpPr/>
          <p:nvPr/>
        </p:nvGrpSpPr>
        <p:grpSpPr>
          <a:xfrm>
            <a:off x="3568680" y="2657520"/>
            <a:ext cx="504720" cy="815400"/>
            <a:chOff x="3568680" y="2657520"/>
            <a:chExt cx="504720" cy="815400"/>
          </a:xfrm>
        </p:grpSpPr>
        <p:sp>
          <p:nvSpPr>
            <p:cNvPr id="1817" name="文本框 27664"/>
            <p:cNvSpPr/>
            <p:nvPr/>
          </p:nvSpPr>
          <p:spPr>
            <a:xfrm>
              <a:off x="3568680" y="3013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8" name="文本框 27665"/>
            <p:cNvSpPr/>
            <p:nvPr/>
          </p:nvSpPr>
          <p:spPr>
            <a:xfrm>
              <a:off x="3657600" y="2657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9" name="直接连接符 27666"/>
            <p:cNvSpPr/>
            <p:nvPr/>
          </p:nvSpPr>
          <p:spPr>
            <a:xfrm>
              <a:off x="3635280" y="307656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20" name="组合 27667"/>
          <p:cNvGrpSpPr/>
          <p:nvPr/>
        </p:nvGrpSpPr>
        <p:grpSpPr>
          <a:xfrm>
            <a:off x="1285920" y="4807080"/>
            <a:ext cx="8429760" cy="815040"/>
            <a:chOff x="1285920" y="4807080"/>
            <a:chExt cx="8429760" cy="815040"/>
          </a:xfrm>
        </p:grpSpPr>
        <p:sp>
          <p:nvSpPr>
            <p:cNvPr id="1821" name="Rectangle 2"/>
            <p:cNvSpPr/>
            <p:nvPr/>
          </p:nvSpPr>
          <p:spPr>
            <a:xfrm>
              <a:off x="1285920" y="4929120"/>
              <a:ext cx="8429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找        的倒数，先要怎样做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22" name="组合 27669"/>
            <p:cNvGrpSpPr/>
            <p:nvPr/>
          </p:nvGrpSpPr>
          <p:grpSpPr>
            <a:xfrm>
              <a:off x="1882800" y="4807080"/>
              <a:ext cx="785520" cy="815040"/>
              <a:chOff x="1882800" y="4807080"/>
              <a:chExt cx="785520" cy="815040"/>
            </a:xfrm>
          </p:grpSpPr>
          <p:sp>
            <p:nvSpPr>
              <p:cNvPr id="1823" name="文本框 27670"/>
              <p:cNvSpPr/>
              <p:nvPr/>
            </p:nvSpPr>
            <p:spPr>
              <a:xfrm>
                <a:off x="2163600" y="5162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4" name="文本框 27671"/>
              <p:cNvSpPr/>
              <p:nvPr/>
            </p:nvSpPr>
            <p:spPr>
              <a:xfrm>
                <a:off x="2157480" y="4807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5" name="直接连接符 27672"/>
              <p:cNvSpPr/>
              <p:nvPr/>
            </p:nvSpPr>
            <p:spPr>
              <a:xfrm>
                <a:off x="2182680" y="5225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6" name="文本框 27673"/>
              <p:cNvSpPr/>
              <p:nvPr/>
            </p:nvSpPr>
            <p:spPr>
              <a:xfrm>
                <a:off x="1882800" y="49640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827" name="组合 27674"/>
          <p:cNvGrpSpPr/>
          <p:nvPr/>
        </p:nvGrpSpPr>
        <p:grpSpPr>
          <a:xfrm>
            <a:off x="500040" y="4224240"/>
            <a:ext cx="8429760" cy="815040"/>
            <a:chOff x="500040" y="4224240"/>
            <a:chExt cx="8429760" cy="815040"/>
          </a:xfrm>
        </p:grpSpPr>
        <p:sp>
          <p:nvSpPr>
            <p:cNvPr id="1828" name="Rectangle 2"/>
            <p:cNvSpPr/>
            <p:nvPr/>
          </p:nvSpPr>
          <p:spPr>
            <a:xfrm>
              <a:off x="500040" y="4357800"/>
              <a:ext cx="8429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你是怎样想的？（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0.8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2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0.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29" name="组合 27676"/>
            <p:cNvGrpSpPr/>
            <p:nvPr/>
          </p:nvGrpSpPr>
          <p:grpSpPr>
            <a:xfrm>
              <a:off x="7805880" y="4224240"/>
              <a:ext cx="511200" cy="815040"/>
              <a:chOff x="7805880" y="4224240"/>
              <a:chExt cx="511200" cy="815040"/>
            </a:xfrm>
          </p:grpSpPr>
          <p:sp>
            <p:nvSpPr>
              <p:cNvPr id="1830" name="文本框 27677"/>
              <p:cNvSpPr/>
              <p:nvPr/>
            </p:nvSpPr>
            <p:spPr>
              <a:xfrm>
                <a:off x="7812360" y="45795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1" name="文本框 27678"/>
              <p:cNvSpPr/>
              <p:nvPr/>
            </p:nvSpPr>
            <p:spPr>
              <a:xfrm>
                <a:off x="7805880" y="4224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2" name="直接连接符 27679"/>
              <p:cNvSpPr/>
              <p:nvPr/>
            </p:nvSpPr>
            <p:spPr>
              <a:xfrm>
                <a:off x="7821720" y="46432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83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5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6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837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838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839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841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842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843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844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845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导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714240" y="1571760"/>
            <a:ext cx="471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口算下面各题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Rectangle 2"/>
          <p:cNvSpPr/>
          <p:nvPr/>
        </p:nvSpPr>
        <p:spPr>
          <a:xfrm>
            <a:off x="1285920" y="4319640"/>
            <a:ext cx="1643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7" name="组合 19460"/>
          <p:cNvGrpSpPr/>
          <p:nvPr/>
        </p:nvGrpSpPr>
        <p:grpSpPr>
          <a:xfrm>
            <a:off x="1022400" y="2657520"/>
            <a:ext cx="1444680" cy="815400"/>
            <a:chOff x="1022400" y="2657520"/>
            <a:chExt cx="1444680" cy="815400"/>
          </a:xfrm>
        </p:grpSpPr>
        <p:sp>
          <p:nvSpPr>
            <p:cNvPr id="1488" name="Text Box 8"/>
            <p:cNvSpPr/>
            <p:nvPr/>
          </p:nvSpPr>
          <p:spPr>
            <a:xfrm>
              <a:off x="1319040" y="2889360"/>
              <a:ext cx="3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489" name="组合 19462"/>
            <p:cNvGrpSpPr/>
            <p:nvPr/>
          </p:nvGrpSpPr>
          <p:grpSpPr>
            <a:xfrm>
              <a:off x="1714680" y="2657520"/>
              <a:ext cx="504720" cy="815400"/>
              <a:chOff x="1714680" y="2657520"/>
              <a:chExt cx="504720" cy="815400"/>
            </a:xfrm>
          </p:grpSpPr>
          <p:sp>
            <p:nvSpPr>
              <p:cNvPr id="1490" name="文本框 19463"/>
              <p:cNvSpPr/>
              <p:nvPr/>
            </p:nvSpPr>
            <p:spPr>
              <a:xfrm>
                <a:off x="1714680" y="3013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1" name="文本框 19464"/>
              <p:cNvSpPr/>
              <p:nvPr/>
            </p:nvSpPr>
            <p:spPr>
              <a:xfrm>
                <a:off x="1717560" y="2657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2" name="直接连接符 19465"/>
              <p:cNvSpPr/>
              <p:nvPr/>
            </p:nvSpPr>
            <p:spPr>
              <a:xfrm>
                <a:off x="1733400" y="30765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493" name="组合 19466"/>
            <p:cNvGrpSpPr/>
            <p:nvPr/>
          </p:nvGrpSpPr>
          <p:grpSpPr>
            <a:xfrm>
              <a:off x="1022400" y="2657520"/>
              <a:ext cx="504720" cy="815400"/>
              <a:chOff x="1022400" y="2657520"/>
              <a:chExt cx="504720" cy="815400"/>
            </a:xfrm>
          </p:grpSpPr>
          <p:sp>
            <p:nvSpPr>
              <p:cNvPr id="1494" name="文本框 19467"/>
              <p:cNvSpPr/>
              <p:nvPr/>
            </p:nvSpPr>
            <p:spPr>
              <a:xfrm>
                <a:off x="1022400" y="3013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5" name="文本框 19468"/>
              <p:cNvSpPr/>
              <p:nvPr/>
            </p:nvSpPr>
            <p:spPr>
              <a:xfrm>
                <a:off x="1025640" y="2657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6" name="直接连接符 19469"/>
              <p:cNvSpPr/>
              <p:nvPr/>
            </p:nvSpPr>
            <p:spPr>
              <a:xfrm>
                <a:off x="1031760" y="30765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497" name="文本框 19470"/>
            <p:cNvSpPr/>
            <p:nvPr/>
          </p:nvSpPr>
          <p:spPr>
            <a:xfrm>
              <a:off x="1963800" y="28065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8" name="文本框 19471"/>
          <p:cNvSpPr/>
          <p:nvPr/>
        </p:nvSpPr>
        <p:spPr>
          <a:xfrm>
            <a:off x="2212920" y="281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9" name="组合 19472"/>
          <p:cNvGrpSpPr/>
          <p:nvPr/>
        </p:nvGrpSpPr>
        <p:grpSpPr>
          <a:xfrm>
            <a:off x="3375000" y="2652840"/>
            <a:ext cx="1577520" cy="815040"/>
            <a:chOff x="3375000" y="2652840"/>
            <a:chExt cx="1577520" cy="815040"/>
          </a:xfrm>
        </p:grpSpPr>
        <p:sp>
          <p:nvSpPr>
            <p:cNvPr id="1500" name="Text Box 8"/>
            <p:cNvSpPr/>
            <p:nvPr/>
          </p:nvSpPr>
          <p:spPr>
            <a:xfrm>
              <a:off x="3757320" y="288432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1" name="文本框 19474"/>
            <p:cNvSpPr/>
            <p:nvPr/>
          </p:nvSpPr>
          <p:spPr>
            <a:xfrm>
              <a:off x="4162320" y="300816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2" name="文本框 19475"/>
            <p:cNvSpPr/>
            <p:nvPr/>
          </p:nvSpPr>
          <p:spPr>
            <a:xfrm>
              <a:off x="4079520" y="265284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3" name="直接连接符 19476"/>
            <p:cNvSpPr/>
            <p:nvPr/>
          </p:nvSpPr>
          <p:spPr>
            <a:xfrm>
              <a:off x="4143240" y="307152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4" name="文本框 19477"/>
            <p:cNvSpPr/>
            <p:nvPr/>
          </p:nvSpPr>
          <p:spPr>
            <a:xfrm>
              <a:off x="3375000" y="3008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5" name="文本框 19478"/>
            <p:cNvSpPr/>
            <p:nvPr/>
          </p:nvSpPr>
          <p:spPr>
            <a:xfrm>
              <a:off x="3463560" y="265284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6" name="直接连接符 19479"/>
            <p:cNvSpPr/>
            <p:nvPr/>
          </p:nvSpPr>
          <p:spPr>
            <a:xfrm>
              <a:off x="3441600" y="307152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7" name="文本框 19480"/>
            <p:cNvSpPr/>
            <p:nvPr/>
          </p:nvSpPr>
          <p:spPr>
            <a:xfrm>
              <a:off x="4449600" y="280188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08" name="文本框 19481"/>
          <p:cNvSpPr/>
          <p:nvPr/>
        </p:nvSpPr>
        <p:spPr>
          <a:xfrm>
            <a:off x="4719600" y="28116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9" name="组合 19482"/>
          <p:cNvGrpSpPr/>
          <p:nvPr/>
        </p:nvGrpSpPr>
        <p:grpSpPr>
          <a:xfrm>
            <a:off x="6053040" y="2600280"/>
            <a:ext cx="1181160" cy="815040"/>
            <a:chOff x="6053040" y="2600280"/>
            <a:chExt cx="1181160" cy="815040"/>
          </a:xfrm>
        </p:grpSpPr>
        <p:grpSp>
          <p:nvGrpSpPr>
            <p:cNvPr id="1510" name="组合 19483"/>
            <p:cNvGrpSpPr/>
            <p:nvPr/>
          </p:nvGrpSpPr>
          <p:grpSpPr>
            <a:xfrm>
              <a:off x="6053040" y="2600280"/>
              <a:ext cx="1014480" cy="815040"/>
              <a:chOff x="6053040" y="2600280"/>
              <a:chExt cx="1014480" cy="815040"/>
            </a:xfrm>
          </p:grpSpPr>
          <p:sp>
            <p:nvSpPr>
              <p:cNvPr id="1511" name="文本框 19484"/>
              <p:cNvSpPr/>
              <p:nvPr/>
            </p:nvSpPr>
            <p:spPr>
              <a:xfrm>
                <a:off x="6053040" y="2827080"/>
                <a:ext cx="64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12" name="组合 19485"/>
              <p:cNvGrpSpPr/>
              <p:nvPr/>
            </p:nvGrpSpPr>
            <p:grpSpPr>
              <a:xfrm>
                <a:off x="6558120" y="2600280"/>
                <a:ext cx="509400" cy="815040"/>
                <a:chOff x="6558120" y="2600280"/>
                <a:chExt cx="509400" cy="815040"/>
              </a:xfrm>
            </p:grpSpPr>
            <p:sp>
              <p:nvSpPr>
                <p:cNvPr id="1513" name="文本框 19486"/>
                <p:cNvSpPr/>
                <p:nvPr/>
              </p:nvSpPr>
              <p:spPr>
                <a:xfrm>
                  <a:off x="6562800" y="29556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14" name="文本框 19487"/>
                <p:cNvSpPr/>
                <p:nvPr/>
              </p:nvSpPr>
              <p:spPr>
                <a:xfrm>
                  <a:off x="6558120" y="2600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15" name="直接连接符 19488"/>
                <p:cNvSpPr/>
                <p:nvPr/>
              </p:nvSpPr>
              <p:spPr>
                <a:xfrm>
                  <a:off x="6573960" y="301932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516" name="文本框 19489"/>
            <p:cNvSpPr/>
            <p:nvPr/>
          </p:nvSpPr>
          <p:spPr>
            <a:xfrm>
              <a:off x="6802560" y="2744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7" name="文本框 19490"/>
          <p:cNvSpPr/>
          <p:nvPr/>
        </p:nvSpPr>
        <p:spPr>
          <a:xfrm>
            <a:off x="7032600" y="274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18" name="组合 19491"/>
          <p:cNvGrpSpPr/>
          <p:nvPr/>
        </p:nvGrpSpPr>
        <p:grpSpPr>
          <a:xfrm>
            <a:off x="993600" y="4238640"/>
            <a:ext cx="1454040" cy="815400"/>
            <a:chOff x="993600" y="4238640"/>
            <a:chExt cx="1454040" cy="815400"/>
          </a:xfrm>
        </p:grpSpPr>
        <p:sp>
          <p:nvSpPr>
            <p:cNvPr id="1519" name="Text Box 8"/>
            <p:cNvSpPr/>
            <p:nvPr/>
          </p:nvSpPr>
          <p:spPr>
            <a:xfrm>
              <a:off x="1376280" y="4470480"/>
              <a:ext cx="7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2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0" name="文本框 19493"/>
            <p:cNvSpPr/>
            <p:nvPr/>
          </p:nvSpPr>
          <p:spPr>
            <a:xfrm>
              <a:off x="993600" y="4594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1" name="文本框 19494"/>
            <p:cNvSpPr/>
            <p:nvPr/>
          </p:nvSpPr>
          <p:spPr>
            <a:xfrm>
              <a:off x="1082520" y="42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2" name="直接连接符 19495"/>
            <p:cNvSpPr/>
            <p:nvPr/>
          </p:nvSpPr>
          <p:spPr>
            <a:xfrm>
              <a:off x="1060200" y="4657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3" name="文本框 19496"/>
            <p:cNvSpPr/>
            <p:nvPr/>
          </p:nvSpPr>
          <p:spPr>
            <a:xfrm>
              <a:off x="1944360" y="43974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24" name="文本框 19497"/>
          <p:cNvSpPr/>
          <p:nvPr/>
        </p:nvSpPr>
        <p:spPr>
          <a:xfrm>
            <a:off x="2184480" y="4397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5" name="文本框 19498"/>
          <p:cNvSpPr/>
          <p:nvPr/>
        </p:nvSpPr>
        <p:spPr>
          <a:xfrm>
            <a:off x="4738680" y="4370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26" name="组合 19499"/>
          <p:cNvGrpSpPr/>
          <p:nvPr/>
        </p:nvGrpSpPr>
        <p:grpSpPr>
          <a:xfrm>
            <a:off x="5872320" y="4149720"/>
            <a:ext cx="1577520" cy="815400"/>
            <a:chOff x="5872320" y="4149720"/>
            <a:chExt cx="1577520" cy="815400"/>
          </a:xfrm>
        </p:grpSpPr>
        <p:sp>
          <p:nvSpPr>
            <p:cNvPr id="1527" name="Text Box 8"/>
            <p:cNvSpPr/>
            <p:nvPr/>
          </p:nvSpPr>
          <p:spPr>
            <a:xfrm>
              <a:off x="6254640" y="43815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8" name="文本框 19501"/>
            <p:cNvSpPr/>
            <p:nvPr/>
          </p:nvSpPr>
          <p:spPr>
            <a:xfrm>
              <a:off x="6659640" y="45054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9" name="文本框 19502"/>
            <p:cNvSpPr/>
            <p:nvPr/>
          </p:nvSpPr>
          <p:spPr>
            <a:xfrm>
              <a:off x="6576840" y="414972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0" name="直接连接符 19503"/>
            <p:cNvSpPr/>
            <p:nvPr/>
          </p:nvSpPr>
          <p:spPr>
            <a:xfrm>
              <a:off x="6640560" y="456876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1" name="文本框 19504"/>
            <p:cNvSpPr/>
            <p:nvPr/>
          </p:nvSpPr>
          <p:spPr>
            <a:xfrm>
              <a:off x="5872320" y="4505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2" name="文本框 19505"/>
            <p:cNvSpPr/>
            <p:nvPr/>
          </p:nvSpPr>
          <p:spPr>
            <a:xfrm>
              <a:off x="5960880" y="414972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3" name="直接连接符 19506"/>
            <p:cNvSpPr/>
            <p:nvPr/>
          </p:nvSpPr>
          <p:spPr>
            <a:xfrm>
              <a:off x="5938920" y="456876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4" name="文本框 19507"/>
            <p:cNvSpPr/>
            <p:nvPr/>
          </p:nvSpPr>
          <p:spPr>
            <a:xfrm>
              <a:off x="6946920" y="429912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35" name="文本框 19508"/>
          <p:cNvSpPr/>
          <p:nvPr/>
        </p:nvSpPr>
        <p:spPr>
          <a:xfrm>
            <a:off x="7192800" y="4294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36" name="组合 19509"/>
          <p:cNvGrpSpPr/>
          <p:nvPr/>
        </p:nvGrpSpPr>
        <p:grpSpPr>
          <a:xfrm>
            <a:off x="3540240" y="4210200"/>
            <a:ext cx="1444680" cy="815040"/>
            <a:chOff x="3540240" y="4210200"/>
            <a:chExt cx="1444680" cy="815040"/>
          </a:xfrm>
        </p:grpSpPr>
        <p:sp>
          <p:nvSpPr>
            <p:cNvPr id="1537" name="Text Box 8"/>
            <p:cNvSpPr/>
            <p:nvPr/>
          </p:nvSpPr>
          <p:spPr>
            <a:xfrm>
              <a:off x="3836880" y="4441680"/>
              <a:ext cx="3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38" name="组合 19511"/>
            <p:cNvGrpSpPr/>
            <p:nvPr/>
          </p:nvGrpSpPr>
          <p:grpSpPr>
            <a:xfrm>
              <a:off x="4232520" y="4210200"/>
              <a:ext cx="504720" cy="815040"/>
              <a:chOff x="4232520" y="4210200"/>
              <a:chExt cx="504720" cy="815040"/>
            </a:xfrm>
          </p:grpSpPr>
          <p:sp>
            <p:nvSpPr>
              <p:cNvPr id="1539" name="文本框 19512"/>
              <p:cNvSpPr/>
              <p:nvPr/>
            </p:nvSpPr>
            <p:spPr>
              <a:xfrm>
                <a:off x="4232520" y="4565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0" name="文本框 19513"/>
              <p:cNvSpPr/>
              <p:nvPr/>
            </p:nvSpPr>
            <p:spPr>
              <a:xfrm>
                <a:off x="4235400" y="4210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1" name="直接连接符 19514"/>
              <p:cNvSpPr/>
              <p:nvPr/>
            </p:nvSpPr>
            <p:spPr>
              <a:xfrm>
                <a:off x="4251240" y="4628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42" name="组合 19515"/>
            <p:cNvGrpSpPr/>
            <p:nvPr/>
          </p:nvGrpSpPr>
          <p:grpSpPr>
            <a:xfrm>
              <a:off x="3540240" y="4210200"/>
              <a:ext cx="504720" cy="815040"/>
              <a:chOff x="3540240" y="4210200"/>
              <a:chExt cx="504720" cy="815040"/>
            </a:xfrm>
          </p:grpSpPr>
          <p:sp>
            <p:nvSpPr>
              <p:cNvPr id="1543" name="文本框 19516"/>
              <p:cNvSpPr/>
              <p:nvPr/>
            </p:nvSpPr>
            <p:spPr>
              <a:xfrm>
                <a:off x="3540240" y="4565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4" name="文本框 19517"/>
              <p:cNvSpPr/>
              <p:nvPr/>
            </p:nvSpPr>
            <p:spPr>
              <a:xfrm>
                <a:off x="3543480" y="4210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5" name="直接连接符 19518"/>
              <p:cNvSpPr/>
              <p:nvPr/>
            </p:nvSpPr>
            <p:spPr>
              <a:xfrm>
                <a:off x="3549600" y="46288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46" name="文本框 19519"/>
            <p:cNvSpPr/>
            <p:nvPr/>
          </p:nvSpPr>
          <p:spPr>
            <a:xfrm>
              <a:off x="4481640" y="43588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47" name="矩形 19521"/>
          <p:cNvSpPr/>
          <p:nvPr/>
        </p:nvSpPr>
        <p:spPr>
          <a:xfrm>
            <a:off x="18720" y="4432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8" name="矩形 19522"/>
          <p:cNvSpPr/>
          <p:nvPr/>
        </p:nvSpPr>
        <p:spPr>
          <a:xfrm>
            <a:off x="234720" y="4648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组合 20481"/>
          <p:cNvGrpSpPr/>
          <p:nvPr/>
        </p:nvGrpSpPr>
        <p:grpSpPr>
          <a:xfrm>
            <a:off x="3740040" y="3141720"/>
            <a:ext cx="1444680" cy="815400"/>
            <a:chOff x="3740040" y="3141720"/>
            <a:chExt cx="1444680" cy="815400"/>
          </a:xfrm>
        </p:grpSpPr>
        <p:sp>
          <p:nvSpPr>
            <p:cNvPr id="1550" name="Text Box 8"/>
            <p:cNvSpPr/>
            <p:nvPr/>
          </p:nvSpPr>
          <p:spPr>
            <a:xfrm>
              <a:off x="4036680" y="3373560"/>
              <a:ext cx="3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51" name="组合 20483"/>
            <p:cNvGrpSpPr/>
            <p:nvPr/>
          </p:nvGrpSpPr>
          <p:grpSpPr>
            <a:xfrm>
              <a:off x="4432320" y="3141720"/>
              <a:ext cx="504720" cy="815400"/>
              <a:chOff x="4432320" y="3141720"/>
              <a:chExt cx="504720" cy="815400"/>
            </a:xfrm>
          </p:grpSpPr>
          <p:sp>
            <p:nvSpPr>
              <p:cNvPr id="1552" name="文本框 20484"/>
              <p:cNvSpPr/>
              <p:nvPr/>
            </p:nvSpPr>
            <p:spPr>
              <a:xfrm>
                <a:off x="4432320" y="3497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3" name="文本框 20485"/>
              <p:cNvSpPr/>
              <p:nvPr/>
            </p:nvSpPr>
            <p:spPr>
              <a:xfrm>
                <a:off x="4435200" y="3141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4" name="直接连接符 20486"/>
              <p:cNvSpPr/>
              <p:nvPr/>
            </p:nvSpPr>
            <p:spPr>
              <a:xfrm>
                <a:off x="4451040" y="3560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55" name="组合 20487"/>
            <p:cNvGrpSpPr/>
            <p:nvPr/>
          </p:nvGrpSpPr>
          <p:grpSpPr>
            <a:xfrm>
              <a:off x="3740040" y="3141720"/>
              <a:ext cx="504720" cy="815400"/>
              <a:chOff x="3740040" y="3141720"/>
              <a:chExt cx="504720" cy="815400"/>
            </a:xfrm>
          </p:grpSpPr>
          <p:sp>
            <p:nvSpPr>
              <p:cNvPr id="1556" name="文本框 20488"/>
              <p:cNvSpPr/>
              <p:nvPr/>
            </p:nvSpPr>
            <p:spPr>
              <a:xfrm>
                <a:off x="3740040" y="3497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7" name="文本框 20489"/>
              <p:cNvSpPr/>
              <p:nvPr/>
            </p:nvSpPr>
            <p:spPr>
              <a:xfrm>
                <a:off x="3743280" y="3141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8" name="直接连接符 20490"/>
              <p:cNvSpPr/>
              <p:nvPr/>
            </p:nvSpPr>
            <p:spPr>
              <a:xfrm>
                <a:off x="3749400" y="3560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59" name="文本框 20491"/>
            <p:cNvSpPr/>
            <p:nvPr/>
          </p:nvSpPr>
          <p:spPr>
            <a:xfrm>
              <a:off x="4681440" y="32907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60" name="Rectangle 2"/>
          <p:cNvSpPr/>
          <p:nvPr/>
        </p:nvSpPr>
        <p:spPr>
          <a:xfrm>
            <a:off x="457200" y="3794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1" name="Rectangle 2"/>
          <p:cNvSpPr/>
          <p:nvPr/>
        </p:nvSpPr>
        <p:spPr>
          <a:xfrm>
            <a:off x="1214280" y="3378240"/>
            <a:ext cx="1643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2" name="Rectangle 2"/>
          <p:cNvSpPr/>
          <p:nvPr/>
        </p:nvSpPr>
        <p:spPr>
          <a:xfrm>
            <a:off x="395280" y="429264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观察上面各题，你有什么发现？（乘积都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两个因数的分子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和分母的位置刚好相反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3" name="Rectangle 2"/>
          <p:cNvSpPr/>
          <p:nvPr/>
        </p:nvSpPr>
        <p:spPr>
          <a:xfrm>
            <a:off x="731880" y="49417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你写出几个这样的算式。（反馈交流，教师板书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4" name="Rectangle 2"/>
          <p:cNvSpPr/>
          <p:nvPr/>
        </p:nvSpPr>
        <p:spPr>
          <a:xfrm>
            <a:off x="755640" y="53737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还能写吗？能写多少个？（板书：无数个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5" name="Rectangle 2"/>
          <p:cNvSpPr/>
          <p:nvPr/>
        </p:nvSpPr>
        <p:spPr>
          <a:xfrm>
            <a:off x="142920" y="1500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观察算式，揭示课题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6" name="文本框 20498"/>
          <p:cNvSpPr/>
          <p:nvPr/>
        </p:nvSpPr>
        <p:spPr>
          <a:xfrm>
            <a:off x="2514600" y="23605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67" name="组合 20499"/>
          <p:cNvGrpSpPr/>
          <p:nvPr/>
        </p:nvGrpSpPr>
        <p:grpSpPr>
          <a:xfrm>
            <a:off x="3600360" y="2197080"/>
            <a:ext cx="1578240" cy="815400"/>
            <a:chOff x="3600360" y="2197080"/>
            <a:chExt cx="1578240" cy="815400"/>
          </a:xfrm>
        </p:grpSpPr>
        <p:sp>
          <p:nvSpPr>
            <p:cNvPr id="1568" name="Text Box 8"/>
            <p:cNvSpPr/>
            <p:nvPr/>
          </p:nvSpPr>
          <p:spPr>
            <a:xfrm>
              <a:off x="3983040" y="242892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69" name="文本框 20501"/>
            <p:cNvSpPr/>
            <p:nvPr/>
          </p:nvSpPr>
          <p:spPr>
            <a:xfrm>
              <a:off x="4388040" y="2552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0" name="文本框 20502"/>
            <p:cNvSpPr/>
            <p:nvPr/>
          </p:nvSpPr>
          <p:spPr>
            <a:xfrm>
              <a:off x="4305240" y="219708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1" name="直接连接符 20503"/>
            <p:cNvSpPr/>
            <p:nvPr/>
          </p:nvSpPr>
          <p:spPr>
            <a:xfrm>
              <a:off x="4368960" y="26161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2" name="文本框 20504"/>
            <p:cNvSpPr/>
            <p:nvPr/>
          </p:nvSpPr>
          <p:spPr>
            <a:xfrm>
              <a:off x="3600360" y="25527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3" name="文本框 20505"/>
            <p:cNvSpPr/>
            <p:nvPr/>
          </p:nvSpPr>
          <p:spPr>
            <a:xfrm>
              <a:off x="3689280" y="2197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4" name="直接连接符 20506"/>
            <p:cNvSpPr/>
            <p:nvPr/>
          </p:nvSpPr>
          <p:spPr>
            <a:xfrm>
              <a:off x="3667320" y="26161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5" name="文本框 20507"/>
            <p:cNvSpPr/>
            <p:nvPr/>
          </p:nvSpPr>
          <p:spPr>
            <a:xfrm>
              <a:off x="4675320" y="23464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76" name="文本框 20508"/>
          <p:cNvSpPr/>
          <p:nvPr/>
        </p:nvSpPr>
        <p:spPr>
          <a:xfrm>
            <a:off x="4944960" y="2355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77" name="组合 20509"/>
          <p:cNvGrpSpPr/>
          <p:nvPr/>
        </p:nvGrpSpPr>
        <p:grpSpPr>
          <a:xfrm>
            <a:off x="6335640" y="2144880"/>
            <a:ext cx="1181160" cy="815040"/>
            <a:chOff x="6335640" y="2144880"/>
            <a:chExt cx="1181160" cy="815040"/>
          </a:xfrm>
        </p:grpSpPr>
        <p:grpSp>
          <p:nvGrpSpPr>
            <p:cNvPr id="1578" name="组合 20510"/>
            <p:cNvGrpSpPr/>
            <p:nvPr/>
          </p:nvGrpSpPr>
          <p:grpSpPr>
            <a:xfrm>
              <a:off x="6335640" y="2144880"/>
              <a:ext cx="1014480" cy="815040"/>
              <a:chOff x="6335640" y="2144880"/>
              <a:chExt cx="1014480" cy="815040"/>
            </a:xfrm>
          </p:grpSpPr>
          <p:sp>
            <p:nvSpPr>
              <p:cNvPr id="1579" name="文本框 20511"/>
              <p:cNvSpPr/>
              <p:nvPr/>
            </p:nvSpPr>
            <p:spPr>
              <a:xfrm>
                <a:off x="6335640" y="2371680"/>
                <a:ext cx="64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80" name="组合 20512"/>
              <p:cNvGrpSpPr/>
              <p:nvPr/>
            </p:nvGrpSpPr>
            <p:grpSpPr>
              <a:xfrm>
                <a:off x="6840720" y="2144880"/>
                <a:ext cx="509400" cy="815040"/>
                <a:chOff x="6840720" y="2144880"/>
                <a:chExt cx="509400" cy="815040"/>
              </a:xfrm>
            </p:grpSpPr>
            <p:sp>
              <p:nvSpPr>
                <p:cNvPr id="1581" name="文本框 20513"/>
                <p:cNvSpPr/>
                <p:nvPr/>
              </p:nvSpPr>
              <p:spPr>
                <a:xfrm>
                  <a:off x="6845400" y="25002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82" name="文本框 20514"/>
                <p:cNvSpPr/>
                <p:nvPr/>
              </p:nvSpPr>
              <p:spPr>
                <a:xfrm>
                  <a:off x="6840720" y="21448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83" name="直接连接符 20515"/>
                <p:cNvSpPr/>
                <p:nvPr/>
              </p:nvSpPr>
              <p:spPr>
                <a:xfrm>
                  <a:off x="6856560" y="256392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584" name="文本框 20516"/>
            <p:cNvSpPr/>
            <p:nvPr/>
          </p:nvSpPr>
          <p:spPr>
            <a:xfrm>
              <a:off x="7085160" y="22892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85" name="文本框 20517"/>
          <p:cNvSpPr/>
          <p:nvPr/>
        </p:nvSpPr>
        <p:spPr>
          <a:xfrm>
            <a:off x="7343640" y="22892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86" name="组合 20518"/>
          <p:cNvGrpSpPr/>
          <p:nvPr/>
        </p:nvGrpSpPr>
        <p:grpSpPr>
          <a:xfrm>
            <a:off x="1266840" y="3144960"/>
            <a:ext cx="1454040" cy="815400"/>
            <a:chOff x="1266840" y="3144960"/>
            <a:chExt cx="1454040" cy="815400"/>
          </a:xfrm>
        </p:grpSpPr>
        <p:sp>
          <p:nvSpPr>
            <p:cNvPr id="1587" name="Text Box 8"/>
            <p:cNvSpPr/>
            <p:nvPr/>
          </p:nvSpPr>
          <p:spPr>
            <a:xfrm>
              <a:off x="1649520" y="3376800"/>
              <a:ext cx="7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2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8" name="文本框 20520"/>
            <p:cNvSpPr/>
            <p:nvPr/>
          </p:nvSpPr>
          <p:spPr>
            <a:xfrm>
              <a:off x="1266840" y="3500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9" name="文本框 20521"/>
            <p:cNvSpPr/>
            <p:nvPr/>
          </p:nvSpPr>
          <p:spPr>
            <a:xfrm>
              <a:off x="1355760" y="31449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0" name="直接连接符 20522"/>
            <p:cNvSpPr/>
            <p:nvPr/>
          </p:nvSpPr>
          <p:spPr>
            <a:xfrm>
              <a:off x="1333440" y="35640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1" name="文本框 20523"/>
            <p:cNvSpPr/>
            <p:nvPr/>
          </p:nvSpPr>
          <p:spPr>
            <a:xfrm>
              <a:off x="2217600" y="33037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92" name="文本框 20524"/>
          <p:cNvSpPr/>
          <p:nvPr/>
        </p:nvSpPr>
        <p:spPr>
          <a:xfrm>
            <a:off x="2457360" y="330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3" name="文本框 20525"/>
          <p:cNvSpPr/>
          <p:nvPr/>
        </p:nvSpPr>
        <p:spPr>
          <a:xfrm>
            <a:off x="4925880" y="3295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94" name="组合 20526"/>
          <p:cNvGrpSpPr/>
          <p:nvPr/>
        </p:nvGrpSpPr>
        <p:grpSpPr>
          <a:xfrm>
            <a:off x="6049800" y="3122640"/>
            <a:ext cx="1578240" cy="815400"/>
            <a:chOff x="6049800" y="3122640"/>
            <a:chExt cx="1578240" cy="815400"/>
          </a:xfrm>
        </p:grpSpPr>
        <p:sp>
          <p:nvSpPr>
            <p:cNvPr id="1595" name="Text Box 8"/>
            <p:cNvSpPr/>
            <p:nvPr/>
          </p:nvSpPr>
          <p:spPr>
            <a:xfrm>
              <a:off x="6432480" y="335448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6" name="文本框 20528"/>
            <p:cNvSpPr/>
            <p:nvPr/>
          </p:nvSpPr>
          <p:spPr>
            <a:xfrm>
              <a:off x="6837480" y="3478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7" name="文本框 20529"/>
            <p:cNvSpPr/>
            <p:nvPr/>
          </p:nvSpPr>
          <p:spPr>
            <a:xfrm>
              <a:off x="6754680" y="312264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8" name="直接连接符 20530"/>
            <p:cNvSpPr/>
            <p:nvPr/>
          </p:nvSpPr>
          <p:spPr>
            <a:xfrm>
              <a:off x="6818400" y="354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9" name="文本框 20531"/>
            <p:cNvSpPr/>
            <p:nvPr/>
          </p:nvSpPr>
          <p:spPr>
            <a:xfrm>
              <a:off x="6049800" y="34783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0" name="文本框 20532"/>
            <p:cNvSpPr/>
            <p:nvPr/>
          </p:nvSpPr>
          <p:spPr>
            <a:xfrm>
              <a:off x="6138720" y="3122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1" name="直接连接符 20533"/>
            <p:cNvSpPr/>
            <p:nvPr/>
          </p:nvSpPr>
          <p:spPr>
            <a:xfrm>
              <a:off x="6116760" y="354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2" name="文本框 20534"/>
            <p:cNvSpPr/>
            <p:nvPr/>
          </p:nvSpPr>
          <p:spPr>
            <a:xfrm>
              <a:off x="7124760" y="32720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03" name="文本框 20535"/>
          <p:cNvSpPr/>
          <p:nvPr/>
        </p:nvSpPr>
        <p:spPr>
          <a:xfrm>
            <a:off x="7370640" y="326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04" name="组合 20536"/>
          <p:cNvGrpSpPr/>
          <p:nvPr/>
        </p:nvGrpSpPr>
        <p:grpSpPr>
          <a:xfrm>
            <a:off x="1308240" y="2189160"/>
            <a:ext cx="1443960" cy="815400"/>
            <a:chOff x="1308240" y="2189160"/>
            <a:chExt cx="1443960" cy="815400"/>
          </a:xfrm>
        </p:grpSpPr>
        <p:sp>
          <p:nvSpPr>
            <p:cNvPr id="1605" name="Text Box 8"/>
            <p:cNvSpPr/>
            <p:nvPr/>
          </p:nvSpPr>
          <p:spPr>
            <a:xfrm>
              <a:off x="1604520" y="242100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06" name="组合 20538"/>
            <p:cNvGrpSpPr/>
            <p:nvPr/>
          </p:nvGrpSpPr>
          <p:grpSpPr>
            <a:xfrm>
              <a:off x="2000160" y="2189160"/>
              <a:ext cx="504360" cy="815400"/>
              <a:chOff x="2000160" y="2189160"/>
              <a:chExt cx="504360" cy="815400"/>
            </a:xfrm>
          </p:grpSpPr>
          <p:sp>
            <p:nvSpPr>
              <p:cNvPr id="1607" name="文本框 20539"/>
              <p:cNvSpPr/>
              <p:nvPr/>
            </p:nvSpPr>
            <p:spPr>
              <a:xfrm>
                <a:off x="2000160" y="25448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8" name="文本框 20540"/>
              <p:cNvSpPr/>
              <p:nvPr/>
            </p:nvSpPr>
            <p:spPr>
              <a:xfrm>
                <a:off x="2002680" y="21891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9" name="直接连接符 20541"/>
              <p:cNvSpPr/>
              <p:nvPr/>
            </p:nvSpPr>
            <p:spPr>
              <a:xfrm>
                <a:off x="2018520" y="26082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10" name="组合 20542"/>
            <p:cNvGrpSpPr/>
            <p:nvPr/>
          </p:nvGrpSpPr>
          <p:grpSpPr>
            <a:xfrm>
              <a:off x="1308240" y="2189160"/>
              <a:ext cx="504360" cy="815400"/>
              <a:chOff x="1308240" y="2189160"/>
              <a:chExt cx="504360" cy="815400"/>
            </a:xfrm>
          </p:grpSpPr>
          <p:sp>
            <p:nvSpPr>
              <p:cNvPr id="1611" name="文本框 20543"/>
              <p:cNvSpPr/>
              <p:nvPr/>
            </p:nvSpPr>
            <p:spPr>
              <a:xfrm>
                <a:off x="1308240" y="25448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2" name="文本框 20544"/>
              <p:cNvSpPr/>
              <p:nvPr/>
            </p:nvSpPr>
            <p:spPr>
              <a:xfrm>
                <a:off x="1311120" y="21891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3" name="直接连接符 20545"/>
              <p:cNvSpPr/>
              <p:nvPr/>
            </p:nvSpPr>
            <p:spPr>
              <a:xfrm>
                <a:off x="1317240" y="260820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14" name="文本框 20546"/>
            <p:cNvSpPr/>
            <p:nvPr/>
          </p:nvSpPr>
          <p:spPr>
            <a:xfrm>
              <a:off x="2249280" y="233820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15" name="矩形 20548"/>
          <p:cNvSpPr/>
          <p:nvPr/>
        </p:nvSpPr>
        <p:spPr>
          <a:xfrm>
            <a:off x="18720" y="4432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6" name="矩形 20549"/>
          <p:cNvSpPr/>
          <p:nvPr/>
        </p:nvSpPr>
        <p:spPr>
          <a:xfrm>
            <a:off x="234720" y="4648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2"/>
          <p:cNvSpPr/>
          <p:nvPr/>
        </p:nvSpPr>
        <p:spPr>
          <a:xfrm>
            <a:off x="142920" y="1500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出示概念，加深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8" name="Rectangle 2"/>
          <p:cNvSpPr/>
          <p:nvPr/>
        </p:nvSpPr>
        <p:spPr>
          <a:xfrm>
            <a:off x="395280" y="442116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能说说什么是倒数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9" name="Rectangle 2"/>
          <p:cNvSpPr/>
          <p:nvPr/>
        </p:nvSpPr>
        <p:spPr>
          <a:xfrm>
            <a:off x="1187280" y="4924440"/>
            <a:ext cx="721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你举例说说，什么是“互为”倒数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0" name="Rectangle 2"/>
          <p:cNvSpPr/>
          <p:nvPr/>
        </p:nvSpPr>
        <p:spPr>
          <a:xfrm>
            <a:off x="434880" y="2778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乘积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的两个数互为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倒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   和   互为倒数，就是指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的倒数是   ，   的倒数是   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21" name="组合 21509"/>
          <p:cNvGrpSpPr/>
          <p:nvPr/>
        </p:nvGrpSpPr>
        <p:grpSpPr>
          <a:xfrm>
            <a:off x="5343480" y="2185920"/>
            <a:ext cx="504720" cy="815400"/>
            <a:chOff x="5343480" y="2185920"/>
            <a:chExt cx="504720" cy="815400"/>
          </a:xfrm>
        </p:grpSpPr>
        <p:sp>
          <p:nvSpPr>
            <p:cNvPr id="1622" name="文本框 21510"/>
            <p:cNvSpPr/>
            <p:nvPr/>
          </p:nvSpPr>
          <p:spPr>
            <a:xfrm>
              <a:off x="5343480" y="2541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3" name="文本框 21511"/>
            <p:cNvSpPr/>
            <p:nvPr/>
          </p:nvSpPr>
          <p:spPr>
            <a:xfrm>
              <a:off x="5346360" y="2185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4" name="直接连接符 21512"/>
            <p:cNvSpPr/>
            <p:nvPr/>
          </p:nvSpPr>
          <p:spPr>
            <a:xfrm>
              <a:off x="5362200" y="26049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25" name="组合 21513"/>
          <p:cNvGrpSpPr/>
          <p:nvPr/>
        </p:nvGrpSpPr>
        <p:grpSpPr>
          <a:xfrm>
            <a:off x="4676760" y="2190600"/>
            <a:ext cx="504720" cy="815400"/>
            <a:chOff x="4676760" y="2190600"/>
            <a:chExt cx="504720" cy="815400"/>
          </a:xfrm>
        </p:grpSpPr>
        <p:sp>
          <p:nvSpPr>
            <p:cNvPr id="1626" name="文本框 21514"/>
            <p:cNvSpPr/>
            <p:nvPr/>
          </p:nvSpPr>
          <p:spPr>
            <a:xfrm>
              <a:off x="4676760" y="2546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7" name="文本框 21515"/>
            <p:cNvSpPr/>
            <p:nvPr/>
          </p:nvSpPr>
          <p:spPr>
            <a:xfrm>
              <a:off x="4680000" y="21906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8" name="直接连接符 21516"/>
            <p:cNvSpPr/>
            <p:nvPr/>
          </p:nvSpPr>
          <p:spPr>
            <a:xfrm>
              <a:off x="4686120" y="26096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29" name="组合 21517"/>
          <p:cNvGrpSpPr/>
          <p:nvPr/>
        </p:nvGrpSpPr>
        <p:grpSpPr>
          <a:xfrm>
            <a:off x="822240" y="2781360"/>
            <a:ext cx="504720" cy="815400"/>
            <a:chOff x="822240" y="2781360"/>
            <a:chExt cx="504720" cy="815400"/>
          </a:xfrm>
        </p:grpSpPr>
        <p:sp>
          <p:nvSpPr>
            <p:cNvPr id="1630" name="文本框 21518"/>
            <p:cNvSpPr/>
            <p:nvPr/>
          </p:nvSpPr>
          <p:spPr>
            <a:xfrm>
              <a:off x="822240" y="3137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1" name="文本框 21519"/>
            <p:cNvSpPr/>
            <p:nvPr/>
          </p:nvSpPr>
          <p:spPr>
            <a:xfrm>
              <a:off x="825480" y="278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2" name="直接连接符 21520"/>
            <p:cNvSpPr/>
            <p:nvPr/>
          </p:nvSpPr>
          <p:spPr>
            <a:xfrm>
              <a:off x="831600" y="32004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33" name="组合 21521"/>
          <p:cNvGrpSpPr/>
          <p:nvPr/>
        </p:nvGrpSpPr>
        <p:grpSpPr>
          <a:xfrm>
            <a:off x="2190600" y="2781360"/>
            <a:ext cx="504720" cy="815400"/>
            <a:chOff x="2190600" y="2781360"/>
            <a:chExt cx="504720" cy="815400"/>
          </a:xfrm>
        </p:grpSpPr>
        <p:sp>
          <p:nvSpPr>
            <p:cNvPr id="1634" name="文本框 21522"/>
            <p:cNvSpPr/>
            <p:nvPr/>
          </p:nvSpPr>
          <p:spPr>
            <a:xfrm>
              <a:off x="2190600" y="3137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5" name="文本框 21523"/>
            <p:cNvSpPr/>
            <p:nvPr/>
          </p:nvSpPr>
          <p:spPr>
            <a:xfrm>
              <a:off x="2193480" y="278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6" name="直接连接符 21524"/>
            <p:cNvSpPr/>
            <p:nvPr/>
          </p:nvSpPr>
          <p:spPr>
            <a:xfrm>
              <a:off x="2209320" y="3200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37" name="组合 21525"/>
          <p:cNvGrpSpPr/>
          <p:nvPr/>
        </p:nvGrpSpPr>
        <p:grpSpPr>
          <a:xfrm>
            <a:off x="2887560" y="2790720"/>
            <a:ext cx="504720" cy="815400"/>
            <a:chOff x="2887560" y="2790720"/>
            <a:chExt cx="504720" cy="815400"/>
          </a:xfrm>
        </p:grpSpPr>
        <p:sp>
          <p:nvSpPr>
            <p:cNvPr id="1638" name="文本框 21526"/>
            <p:cNvSpPr/>
            <p:nvPr/>
          </p:nvSpPr>
          <p:spPr>
            <a:xfrm>
              <a:off x="2887560" y="3146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9" name="文本框 21527"/>
            <p:cNvSpPr/>
            <p:nvPr/>
          </p:nvSpPr>
          <p:spPr>
            <a:xfrm>
              <a:off x="2890440" y="2790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0" name="直接连接符 21528"/>
            <p:cNvSpPr/>
            <p:nvPr/>
          </p:nvSpPr>
          <p:spPr>
            <a:xfrm>
              <a:off x="2906280" y="32097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41" name="组合 21529"/>
          <p:cNvGrpSpPr/>
          <p:nvPr/>
        </p:nvGrpSpPr>
        <p:grpSpPr>
          <a:xfrm>
            <a:off x="4292640" y="2781360"/>
            <a:ext cx="504720" cy="815400"/>
            <a:chOff x="4292640" y="2781360"/>
            <a:chExt cx="504720" cy="815400"/>
          </a:xfrm>
        </p:grpSpPr>
        <p:sp>
          <p:nvSpPr>
            <p:cNvPr id="1642" name="文本框 21530"/>
            <p:cNvSpPr/>
            <p:nvPr/>
          </p:nvSpPr>
          <p:spPr>
            <a:xfrm>
              <a:off x="4292640" y="3137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3" name="文本框 21531"/>
            <p:cNvSpPr/>
            <p:nvPr/>
          </p:nvSpPr>
          <p:spPr>
            <a:xfrm>
              <a:off x="4295880" y="278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4" name="直接连接符 21532"/>
            <p:cNvSpPr/>
            <p:nvPr/>
          </p:nvSpPr>
          <p:spPr>
            <a:xfrm>
              <a:off x="4302000" y="32004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45" name="Rectangle 2"/>
          <p:cNvSpPr/>
          <p:nvPr/>
        </p:nvSpPr>
        <p:spPr>
          <a:xfrm>
            <a:off x="457200" y="3794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6" name="矩形 21535"/>
          <p:cNvSpPr/>
          <p:nvPr/>
        </p:nvSpPr>
        <p:spPr>
          <a:xfrm>
            <a:off x="18720" y="4432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2"/>
          <p:cNvSpPr/>
          <p:nvPr/>
        </p:nvSpPr>
        <p:spPr>
          <a:xfrm>
            <a:off x="142920" y="1500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自学概念，探究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8" name="Rectangle 2"/>
          <p:cNvSpPr/>
          <p:nvPr/>
        </p:nvSpPr>
        <p:spPr>
          <a:xfrm>
            <a:off x="428760" y="385776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怎样找一个数的倒数呢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9" name="Rectangle 2"/>
          <p:cNvSpPr/>
          <p:nvPr/>
        </p:nvSpPr>
        <p:spPr>
          <a:xfrm>
            <a:off x="828720" y="206064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面哪两个数互为倒数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50" name="Object 7" descr=""/>
          <p:cNvPicPr/>
          <p:nvPr/>
        </p:nvPicPr>
        <p:blipFill>
          <a:blip r:embed="rId1"/>
          <a:stretch/>
        </p:blipFill>
        <p:spPr>
          <a:xfrm>
            <a:off x="4502160" y="3295800"/>
            <a:ext cx="139680" cy="266400"/>
          </a:xfrm>
          <a:prstGeom prst="rect">
            <a:avLst/>
          </a:prstGeom>
          <a:ln w="0">
            <a:noFill/>
          </a:ln>
        </p:spPr>
      </p:pic>
      <p:sp>
        <p:nvSpPr>
          <p:cNvPr id="1651" name="Rectangle 2"/>
          <p:cNvSpPr/>
          <p:nvPr/>
        </p:nvSpPr>
        <p:spPr>
          <a:xfrm>
            <a:off x="1220760" y="442908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倒数是多少呢？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有倒数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52" name="组合 22535"/>
          <p:cNvGrpSpPr/>
          <p:nvPr/>
        </p:nvGrpSpPr>
        <p:grpSpPr>
          <a:xfrm>
            <a:off x="1701720" y="2698920"/>
            <a:ext cx="4469040" cy="857520"/>
            <a:chOff x="1701720" y="2698920"/>
            <a:chExt cx="4469040" cy="857520"/>
          </a:xfrm>
        </p:grpSpPr>
        <p:grpSp>
          <p:nvGrpSpPr>
            <p:cNvPr id="1653" name="组合 22536"/>
            <p:cNvGrpSpPr/>
            <p:nvPr/>
          </p:nvGrpSpPr>
          <p:grpSpPr>
            <a:xfrm>
              <a:off x="1701720" y="2741400"/>
              <a:ext cx="504720" cy="815040"/>
              <a:chOff x="1701720" y="2741400"/>
              <a:chExt cx="504720" cy="815040"/>
            </a:xfrm>
          </p:grpSpPr>
          <p:sp>
            <p:nvSpPr>
              <p:cNvPr id="1654" name="文本框 22537"/>
              <p:cNvSpPr/>
              <p:nvPr/>
            </p:nvSpPr>
            <p:spPr>
              <a:xfrm>
                <a:off x="1701720" y="3096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5" name="文本框 22538"/>
              <p:cNvSpPr/>
              <p:nvPr/>
            </p:nvSpPr>
            <p:spPr>
              <a:xfrm>
                <a:off x="1704960" y="2741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6" name="直接连接符 22539"/>
              <p:cNvSpPr/>
              <p:nvPr/>
            </p:nvSpPr>
            <p:spPr>
              <a:xfrm>
                <a:off x="1711080" y="3160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57" name="文本框 22540"/>
            <p:cNvSpPr/>
            <p:nvPr/>
          </p:nvSpPr>
          <p:spPr>
            <a:xfrm>
              <a:off x="2278080" y="29080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58" name="组合 22541"/>
            <p:cNvGrpSpPr/>
            <p:nvPr/>
          </p:nvGrpSpPr>
          <p:grpSpPr>
            <a:xfrm>
              <a:off x="2809800" y="2741400"/>
              <a:ext cx="504720" cy="815040"/>
              <a:chOff x="2809800" y="2741400"/>
              <a:chExt cx="504720" cy="815040"/>
            </a:xfrm>
          </p:grpSpPr>
          <p:sp>
            <p:nvSpPr>
              <p:cNvPr id="1659" name="文本框 22542"/>
              <p:cNvSpPr/>
              <p:nvPr/>
            </p:nvSpPr>
            <p:spPr>
              <a:xfrm>
                <a:off x="2809800" y="3096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0" name="文本框 22543"/>
              <p:cNvSpPr/>
              <p:nvPr/>
            </p:nvSpPr>
            <p:spPr>
              <a:xfrm>
                <a:off x="2813040" y="2741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1" name="直接连接符 22544"/>
              <p:cNvSpPr/>
              <p:nvPr/>
            </p:nvSpPr>
            <p:spPr>
              <a:xfrm>
                <a:off x="2819160" y="3160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62" name="组合 22545"/>
            <p:cNvGrpSpPr/>
            <p:nvPr/>
          </p:nvGrpSpPr>
          <p:grpSpPr>
            <a:xfrm>
              <a:off x="3476520" y="2741400"/>
              <a:ext cx="504720" cy="815040"/>
              <a:chOff x="3476520" y="2741400"/>
              <a:chExt cx="504720" cy="815040"/>
            </a:xfrm>
          </p:grpSpPr>
          <p:sp>
            <p:nvSpPr>
              <p:cNvPr id="1663" name="文本框 22546"/>
              <p:cNvSpPr/>
              <p:nvPr/>
            </p:nvSpPr>
            <p:spPr>
              <a:xfrm>
                <a:off x="3476520" y="3096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4" name="文本框 22547"/>
              <p:cNvSpPr/>
              <p:nvPr/>
            </p:nvSpPr>
            <p:spPr>
              <a:xfrm>
                <a:off x="3479760" y="2741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5" name="直接连接符 22548"/>
              <p:cNvSpPr/>
              <p:nvPr/>
            </p:nvSpPr>
            <p:spPr>
              <a:xfrm>
                <a:off x="3485880" y="3160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66" name="组合 22549"/>
            <p:cNvGrpSpPr/>
            <p:nvPr/>
          </p:nvGrpSpPr>
          <p:grpSpPr>
            <a:xfrm>
              <a:off x="4154400" y="2741400"/>
              <a:ext cx="504720" cy="815040"/>
              <a:chOff x="4154400" y="2741400"/>
              <a:chExt cx="504720" cy="815040"/>
            </a:xfrm>
          </p:grpSpPr>
          <p:sp>
            <p:nvSpPr>
              <p:cNvPr id="1667" name="文本框 22550"/>
              <p:cNvSpPr/>
              <p:nvPr/>
            </p:nvSpPr>
            <p:spPr>
              <a:xfrm>
                <a:off x="4154400" y="3096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8" name="文本框 22551"/>
              <p:cNvSpPr/>
              <p:nvPr/>
            </p:nvSpPr>
            <p:spPr>
              <a:xfrm>
                <a:off x="4157640" y="2741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9" name="直接连接符 22552"/>
              <p:cNvSpPr/>
              <p:nvPr/>
            </p:nvSpPr>
            <p:spPr>
              <a:xfrm>
                <a:off x="4163760" y="3160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70" name="文本框 22553"/>
            <p:cNvSpPr/>
            <p:nvPr/>
          </p:nvSpPr>
          <p:spPr>
            <a:xfrm>
              <a:off x="4730760" y="29048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1" name="组合 22554"/>
            <p:cNvGrpSpPr/>
            <p:nvPr/>
          </p:nvGrpSpPr>
          <p:grpSpPr>
            <a:xfrm>
              <a:off x="5307120" y="2698920"/>
              <a:ext cx="504720" cy="815040"/>
              <a:chOff x="5307120" y="2698920"/>
              <a:chExt cx="504720" cy="815040"/>
            </a:xfrm>
          </p:grpSpPr>
          <p:sp>
            <p:nvSpPr>
              <p:cNvPr id="1672" name="文本框 22555"/>
              <p:cNvSpPr/>
              <p:nvPr/>
            </p:nvSpPr>
            <p:spPr>
              <a:xfrm>
                <a:off x="5307120" y="3054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3" name="文本框 22556"/>
              <p:cNvSpPr/>
              <p:nvPr/>
            </p:nvSpPr>
            <p:spPr>
              <a:xfrm>
                <a:off x="5310360" y="2698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4" name="直接连接符 22557"/>
              <p:cNvSpPr/>
              <p:nvPr/>
            </p:nvSpPr>
            <p:spPr>
              <a:xfrm>
                <a:off x="5316480" y="31176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75" name="文本框 22558"/>
            <p:cNvSpPr/>
            <p:nvPr/>
          </p:nvSpPr>
          <p:spPr>
            <a:xfrm>
              <a:off x="5883120" y="286992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76" name="Rectangle 2"/>
          <p:cNvSpPr/>
          <p:nvPr/>
        </p:nvSpPr>
        <p:spPr>
          <a:xfrm>
            <a:off x="457200" y="3794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2"/>
          <p:cNvSpPr/>
          <p:nvPr/>
        </p:nvSpPr>
        <p:spPr>
          <a:xfrm>
            <a:off x="142920" y="1500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自学概念，探究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8" name="Rectangle 2"/>
          <p:cNvSpPr/>
          <p:nvPr/>
        </p:nvSpPr>
        <p:spPr>
          <a:xfrm>
            <a:off x="493560" y="5000760"/>
            <a:ext cx="62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问题：说说你是怎样写的？（反馈与交流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9" name="TextBox 6"/>
          <p:cNvSpPr/>
          <p:nvPr/>
        </p:nvSpPr>
        <p:spPr>
          <a:xfrm>
            <a:off x="1071720" y="2357280"/>
            <a:ext cx="47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写出下面各数的倒数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80" name="组合 23556"/>
          <p:cNvGrpSpPr/>
          <p:nvPr/>
        </p:nvGrpSpPr>
        <p:grpSpPr>
          <a:xfrm>
            <a:off x="1619280" y="3068640"/>
            <a:ext cx="4458960" cy="848520"/>
            <a:chOff x="1619280" y="3068640"/>
            <a:chExt cx="4458960" cy="848520"/>
          </a:xfrm>
        </p:grpSpPr>
        <p:grpSp>
          <p:nvGrpSpPr>
            <p:cNvPr id="1681" name="组合 23557"/>
            <p:cNvGrpSpPr/>
            <p:nvPr/>
          </p:nvGrpSpPr>
          <p:grpSpPr>
            <a:xfrm>
              <a:off x="2638440" y="3087720"/>
              <a:ext cx="587160" cy="815040"/>
              <a:chOff x="2638440" y="3087720"/>
              <a:chExt cx="587160" cy="815040"/>
            </a:xfrm>
          </p:grpSpPr>
          <p:sp>
            <p:nvSpPr>
              <p:cNvPr id="1682" name="文本框 23558"/>
              <p:cNvSpPr/>
              <p:nvPr/>
            </p:nvSpPr>
            <p:spPr>
              <a:xfrm>
                <a:off x="2720880" y="3443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3" name="文本框 23559"/>
              <p:cNvSpPr/>
              <p:nvPr/>
            </p:nvSpPr>
            <p:spPr>
              <a:xfrm>
                <a:off x="2638440" y="3087720"/>
                <a:ext cx="5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4" name="直接连接符 23560"/>
              <p:cNvSpPr/>
              <p:nvPr/>
            </p:nvSpPr>
            <p:spPr>
              <a:xfrm>
                <a:off x="2701800" y="3506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85" name="组合 23561"/>
            <p:cNvGrpSpPr/>
            <p:nvPr/>
          </p:nvGrpSpPr>
          <p:grpSpPr>
            <a:xfrm>
              <a:off x="1619280" y="3068640"/>
              <a:ext cx="504720" cy="815040"/>
              <a:chOff x="1619280" y="3068640"/>
              <a:chExt cx="504720" cy="815040"/>
            </a:xfrm>
          </p:grpSpPr>
          <p:sp>
            <p:nvSpPr>
              <p:cNvPr id="1686" name="文本框 23562"/>
              <p:cNvSpPr/>
              <p:nvPr/>
            </p:nvSpPr>
            <p:spPr>
              <a:xfrm>
                <a:off x="1619280" y="3423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7" name="文本框 23563"/>
              <p:cNvSpPr/>
              <p:nvPr/>
            </p:nvSpPr>
            <p:spPr>
              <a:xfrm>
                <a:off x="1698480" y="3068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8" name="直接连接符 23564"/>
              <p:cNvSpPr/>
              <p:nvPr/>
            </p:nvSpPr>
            <p:spPr>
              <a:xfrm>
                <a:off x="1676160" y="34873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89" name="文本框 23565"/>
            <p:cNvSpPr/>
            <p:nvPr/>
          </p:nvSpPr>
          <p:spPr>
            <a:xfrm>
              <a:off x="3609720" y="32655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90" name="组合 23566"/>
            <p:cNvGrpSpPr/>
            <p:nvPr/>
          </p:nvGrpSpPr>
          <p:grpSpPr>
            <a:xfrm>
              <a:off x="4622760" y="3101760"/>
              <a:ext cx="504720" cy="815400"/>
              <a:chOff x="4622760" y="3101760"/>
              <a:chExt cx="504720" cy="815400"/>
            </a:xfrm>
          </p:grpSpPr>
          <p:sp>
            <p:nvSpPr>
              <p:cNvPr id="1691" name="文本框 23567"/>
              <p:cNvSpPr/>
              <p:nvPr/>
            </p:nvSpPr>
            <p:spPr>
              <a:xfrm>
                <a:off x="4622760" y="3457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2" name="文本框 23568"/>
              <p:cNvSpPr/>
              <p:nvPr/>
            </p:nvSpPr>
            <p:spPr>
              <a:xfrm>
                <a:off x="4626000" y="3101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3" name="直接连接符 23569"/>
              <p:cNvSpPr/>
              <p:nvPr/>
            </p:nvSpPr>
            <p:spPr>
              <a:xfrm>
                <a:off x="4632120" y="35208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94" name="组合 23570"/>
            <p:cNvGrpSpPr/>
            <p:nvPr/>
          </p:nvGrpSpPr>
          <p:grpSpPr>
            <a:xfrm>
              <a:off x="5573520" y="3078000"/>
              <a:ext cx="504720" cy="815400"/>
              <a:chOff x="5573520" y="3078000"/>
              <a:chExt cx="504720" cy="815400"/>
            </a:xfrm>
          </p:grpSpPr>
          <p:sp>
            <p:nvSpPr>
              <p:cNvPr id="1695" name="文本框 23571"/>
              <p:cNvSpPr/>
              <p:nvPr/>
            </p:nvSpPr>
            <p:spPr>
              <a:xfrm>
                <a:off x="5573520" y="3433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6" name="文本框 23572"/>
              <p:cNvSpPr/>
              <p:nvPr/>
            </p:nvSpPr>
            <p:spPr>
              <a:xfrm>
                <a:off x="5652720" y="3078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7" name="直接连接符 23573"/>
              <p:cNvSpPr/>
              <p:nvPr/>
            </p:nvSpPr>
            <p:spPr>
              <a:xfrm>
                <a:off x="5630400" y="34970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98" name="Rectangle 2"/>
          <p:cNvSpPr/>
          <p:nvPr/>
        </p:nvSpPr>
        <p:spPr>
          <a:xfrm>
            <a:off x="457200" y="3794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0" name="Rectangle 2"/>
          <p:cNvSpPr/>
          <p:nvPr/>
        </p:nvSpPr>
        <p:spPr>
          <a:xfrm>
            <a:off x="493560" y="5229360"/>
            <a:ext cx="62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连一连，说说你是怎样想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1" name="矩形 24579"/>
          <p:cNvSpPr/>
          <p:nvPr/>
        </p:nvSpPr>
        <p:spPr>
          <a:xfrm>
            <a:off x="2640960" y="15573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将互为倒数的两个数用线连起来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2" name="圆角矩形 24580"/>
          <p:cNvSpPr/>
          <p:nvPr/>
        </p:nvSpPr>
        <p:spPr>
          <a:xfrm>
            <a:off x="2716200" y="2363760"/>
            <a:ext cx="719280" cy="2664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79971">
                <a:moveTo>
                  <a:pt x="3600" y="0"/>
                </a:moveTo>
                <a:arcTo wR="3600" hR="3600" stAng="16200000" swAng="-5400000"/>
                <a:lnTo>
                  <a:pt x="0" y="76371"/>
                </a:lnTo>
                <a:arcTo wR="3600" hR="3600" stAng="10800000" swAng="-5400000"/>
                <a:lnTo>
                  <a:pt x="18000" y="799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3" name="圆角矩形 24581"/>
          <p:cNvSpPr/>
          <p:nvPr/>
        </p:nvSpPr>
        <p:spPr>
          <a:xfrm>
            <a:off x="1332000" y="2349360"/>
            <a:ext cx="718920" cy="2664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80011">
                <a:moveTo>
                  <a:pt x="3600" y="0"/>
                </a:moveTo>
                <a:arcTo wR="3600" hR="3600" stAng="16200000" swAng="-5400000"/>
                <a:lnTo>
                  <a:pt x="0" y="76411"/>
                </a:lnTo>
                <a:arcTo wR="3600" hR="3600" stAng="10800000" swAng="-5400000"/>
                <a:lnTo>
                  <a:pt x="18000" y="800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04" name="组合 24582"/>
          <p:cNvGrpSpPr/>
          <p:nvPr/>
        </p:nvGrpSpPr>
        <p:grpSpPr>
          <a:xfrm>
            <a:off x="1530360" y="4200480"/>
            <a:ext cx="511200" cy="815040"/>
            <a:chOff x="1530360" y="4200480"/>
            <a:chExt cx="511200" cy="815040"/>
          </a:xfrm>
        </p:grpSpPr>
        <p:sp>
          <p:nvSpPr>
            <p:cNvPr id="1705" name="文本框 24583"/>
            <p:cNvSpPr/>
            <p:nvPr/>
          </p:nvSpPr>
          <p:spPr>
            <a:xfrm>
              <a:off x="1536840" y="4555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6" name="文本框 24584"/>
            <p:cNvSpPr/>
            <p:nvPr/>
          </p:nvSpPr>
          <p:spPr>
            <a:xfrm>
              <a:off x="1530360" y="4200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7" name="直接连接符 24585"/>
            <p:cNvSpPr/>
            <p:nvPr/>
          </p:nvSpPr>
          <p:spPr>
            <a:xfrm>
              <a:off x="1546200" y="46195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08" name="组合 24586"/>
          <p:cNvGrpSpPr/>
          <p:nvPr/>
        </p:nvGrpSpPr>
        <p:grpSpPr>
          <a:xfrm>
            <a:off x="2846520" y="3279600"/>
            <a:ext cx="586800" cy="815400"/>
            <a:chOff x="2846520" y="3279600"/>
            <a:chExt cx="586800" cy="815400"/>
          </a:xfrm>
        </p:grpSpPr>
        <p:sp>
          <p:nvSpPr>
            <p:cNvPr id="1709" name="文本框 24587"/>
            <p:cNvSpPr/>
            <p:nvPr/>
          </p:nvSpPr>
          <p:spPr>
            <a:xfrm>
              <a:off x="2928600" y="3635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0" name="文本框 24588"/>
            <p:cNvSpPr/>
            <p:nvPr/>
          </p:nvSpPr>
          <p:spPr>
            <a:xfrm>
              <a:off x="2846520" y="327960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1" name="直接连接符 24589"/>
            <p:cNvSpPr/>
            <p:nvPr/>
          </p:nvSpPr>
          <p:spPr>
            <a:xfrm>
              <a:off x="2909520" y="36986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12" name="组合 24590"/>
          <p:cNvGrpSpPr/>
          <p:nvPr/>
        </p:nvGrpSpPr>
        <p:grpSpPr>
          <a:xfrm>
            <a:off x="1486080" y="2354400"/>
            <a:ext cx="504720" cy="815040"/>
            <a:chOff x="1486080" y="2354400"/>
            <a:chExt cx="504720" cy="815040"/>
          </a:xfrm>
        </p:grpSpPr>
        <p:sp>
          <p:nvSpPr>
            <p:cNvPr id="1713" name="文本框 24591"/>
            <p:cNvSpPr/>
            <p:nvPr/>
          </p:nvSpPr>
          <p:spPr>
            <a:xfrm>
              <a:off x="1486080" y="2709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4" name="文本框 24592"/>
            <p:cNvSpPr/>
            <p:nvPr/>
          </p:nvSpPr>
          <p:spPr>
            <a:xfrm>
              <a:off x="1575000" y="2354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5" name="直接连接符 24593"/>
            <p:cNvSpPr/>
            <p:nvPr/>
          </p:nvSpPr>
          <p:spPr>
            <a:xfrm>
              <a:off x="1552680" y="27730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16" name="组合 24594"/>
          <p:cNvGrpSpPr/>
          <p:nvPr/>
        </p:nvGrpSpPr>
        <p:grpSpPr>
          <a:xfrm>
            <a:off x="2913120" y="4178160"/>
            <a:ext cx="511200" cy="815040"/>
            <a:chOff x="2913120" y="4178160"/>
            <a:chExt cx="511200" cy="815040"/>
          </a:xfrm>
        </p:grpSpPr>
        <p:sp>
          <p:nvSpPr>
            <p:cNvPr id="1717" name="文本框 24595"/>
            <p:cNvSpPr/>
            <p:nvPr/>
          </p:nvSpPr>
          <p:spPr>
            <a:xfrm>
              <a:off x="2919600" y="4533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8" name="文本框 24596"/>
            <p:cNvSpPr/>
            <p:nvPr/>
          </p:nvSpPr>
          <p:spPr>
            <a:xfrm>
              <a:off x="2913120" y="4178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9" name="直接连接符 24597"/>
            <p:cNvSpPr/>
            <p:nvPr/>
          </p:nvSpPr>
          <p:spPr>
            <a:xfrm>
              <a:off x="2928960" y="45972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20" name="文本框 24598"/>
          <p:cNvSpPr/>
          <p:nvPr/>
        </p:nvSpPr>
        <p:spPr>
          <a:xfrm>
            <a:off x="1557360" y="3475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8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21" name="组合 24599"/>
          <p:cNvGrpSpPr/>
          <p:nvPr/>
        </p:nvGrpSpPr>
        <p:grpSpPr>
          <a:xfrm>
            <a:off x="2941560" y="2349360"/>
            <a:ext cx="511200" cy="815040"/>
            <a:chOff x="2941560" y="2349360"/>
            <a:chExt cx="511200" cy="815040"/>
          </a:xfrm>
        </p:grpSpPr>
        <p:sp>
          <p:nvSpPr>
            <p:cNvPr id="1722" name="文本框 24600"/>
            <p:cNvSpPr/>
            <p:nvPr/>
          </p:nvSpPr>
          <p:spPr>
            <a:xfrm>
              <a:off x="2948040" y="2704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3" name="文本框 24601"/>
            <p:cNvSpPr/>
            <p:nvPr/>
          </p:nvSpPr>
          <p:spPr>
            <a:xfrm>
              <a:off x="2941560" y="234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4" name="直接连接符 24602"/>
            <p:cNvSpPr/>
            <p:nvPr/>
          </p:nvSpPr>
          <p:spPr>
            <a:xfrm>
              <a:off x="2957400" y="2768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25" name="圆角矩形 24603"/>
          <p:cNvSpPr/>
          <p:nvPr/>
        </p:nvSpPr>
        <p:spPr>
          <a:xfrm>
            <a:off x="5856120" y="2349360"/>
            <a:ext cx="719280" cy="2664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79971">
                <a:moveTo>
                  <a:pt x="3600" y="0"/>
                </a:moveTo>
                <a:arcTo wR="3600" hR="3600" stAng="16200000" swAng="-5400000"/>
                <a:lnTo>
                  <a:pt x="0" y="76371"/>
                </a:lnTo>
                <a:arcTo wR="3600" hR="3600" stAng="10800000" swAng="-5400000"/>
                <a:lnTo>
                  <a:pt x="18000" y="799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6" name="圆角矩形 24604"/>
          <p:cNvSpPr/>
          <p:nvPr/>
        </p:nvSpPr>
        <p:spPr>
          <a:xfrm>
            <a:off x="4500720" y="2349360"/>
            <a:ext cx="718920" cy="2664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80011">
                <a:moveTo>
                  <a:pt x="3600" y="0"/>
                </a:moveTo>
                <a:arcTo wR="3600" hR="3600" stAng="16200000" swAng="-5400000"/>
                <a:lnTo>
                  <a:pt x="0" y="76411"/>
                </a:lnTo>
                <a:arcTo wR="3600" hR="3600" stAng="10800000" swAng="-5400000"/>
                <a:lnTo>
                  <a:pt x="18000" y="800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27" name="组合 24605"/>
          <p:cNvGrpSpPr/>
          <p:nvPr/>
        </p:nvGrpSpPr>
        <p:grpSpPr>
          <a:xfrm>
            <a:off x="4626000" y="2354400"/>
            <a:ext cx="504720" cy="815040"/>
            <a:chOff x="4626000" y="2354400"/>
            <a:chExt cx="504720" cy="815040"/>
          </a:xfrm>
        </p:grpSpPr>
        <p:sp>
          <p:nvSpPr>
            <p:cNvPr id="1728" name="文本框 24606"/>
            <p:cNvSpPr/>
            <p:nvPr/>
          </p:nvSpPr>
          <p:spPr>
            <a:xfrm>
              <a:off x="4626000" y="2709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9" name="文本框 24607"/>
            <p:cNvSpPr/>
            <p:nvPr/>
          </p:nvSpPr>
          <p:spPr>
            <a:xfrm>
              <a:off x="4633560" y="235440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30" name="直接连接符 24608"/>
            <p:cNvSpPr/>
            <p:nvPr/>
          </p:nvSpPr>
          <p:spPr>
            <a:xfrm>
              <a:off x="4692600" y="277344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31" name="文本框 24609"/>
          <p:cNvSpPr/>
          <p:nvPr/>
        </p:nvSpPr>
        <p:spPr>
          <a:xfrm>
            <a:off x="4543560" y="3456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32" name="组合 24610"/>
          <p:cNvGrpSpPr/>
          <p:nvPr/>
        </p:nvGrpSpPr>
        <p:grpSpPr>
          <a:xfrm>
            <a:off x="5905440" y="2349360"/>
            <a:ext cx="714600" cy="815400"/>
            <a:chOff x="5905440" y="2349360"/>
            <a:chExt cx="714600" cy="815400"/>
          </a:xfrm>
        </p:grpSpPr>
        <p:sp>
          <p:nvSpPr>
            <p:cNvPr id="1733" name="文本框 24611"/>
            <p:cNvSpPr/>
            <p:nvPr/>
          </p:nvSpPr>
          <p:spPr>
            <a:xfrm>
              <a:off x="5905440" y="2705040"/>
              <a:ext cx="7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34" name="文本框 24612"/>
            <p:cNvSpPr/>
            <p:nvPr/>
          </p:nvSpPr>
          <p:spPr>
            <a:xfrm>
              <a:off x="6062760" y="234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35" name="直接连接符 24613"/>
            <p:cNvSpPr/>
            <p:nvPr/>
          </p:nvSpPr>
          <p:spPr>
            <a:xfrm>
              <a:off x="6040440" y="27687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36" name="组合 24614"/>
          <p:cNvGrpSpPr/>
          <p:nvPr/>
        </p:nvGrpSpPr>
        <p:grpSpPr>
          <a:xfrm>
            <a:off x="5979960" y="3274920"/>
            <a:ext cx="505080" cy="815040"/>
            <a:chOff x="5979960" y="3274920"/>
            <a:chExt cx="505080" cy="815040"/>
          </a:xfrm>
        </p:grpSpPr>
        <p:sp>
          <p:nvSpPr>
            <p:cNvPr id="1737" name="文本框 24615"/>
            <p:cNvSpPr/>
            <p:nvPr/>
          </p:nvSpPr>
          <p:spPr>
            <a:xfrm>
              <a:off x="5979960" y="36302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38" name="文本框 24616"/>
            <p:cNvSpPr/>
            <p:nvPr/>
          </p:nvSpPr>
          <p:spPr>
            <a:xfrm>
              <a:off x="5987880" y="327492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39" name="直接连接符 24617"/>
            <p:cNvSpPr/>
            <p:nvPr/>
          </p:nvSpPr>
          <p:spPr>
            <a:xfrm>
              <a:off x="6046920" y="36939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0" name="组合 24618"/>
          <p:cNvGrpSpPr/>
          <p:nvPr/>
        </p:nvGrpSpPr>
        <p:grpSpPr>
          <a:xfrm>
            <a:off x="4629240" y="4164120"/>
            <a:ext cx="504720" cy="815040"/>
            <a:chOff x="4629240" y="4164120"/>
            <a:chExt cx="504720" cy="815040"/>
          </a:xfrm>
        </p:grpSpPr>
        <p:sp>
          <p:nvSpPr>
            <p:cNvPr id="1741" name="文本框 24619"/>
            <p:cNvSpPr/>
            <p:nvPr/>
          </p:nvSpPr>
          <p:spPr>
            <a:xfrm>
              <a:off x="4629240" y="4519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2" name="文本框 24620"/>
            <p:cNvSpPr/>
            <p:nvPr/>
          </p:nvSpPr>
          <p:spPr>
            <a:xfrm>
              <a:off x="4636800" y="416412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3" name="直接连接符 24621"/>
            <p:cNvSpPr/>
            <p:nvPr/>
          </p:nvSpPr>
          <p:spPr>
            <a:xfrm>
              <a:off x="4695840" y="458316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4" name="组合 24622"/>
          <p:cNvGrpSpPr/>
          <p:nvPr/>
        </p:nvGrpSpPr>
        <p:grpSpPr>
          <a:xfrm>
            <a:off x="5981760" y="4154400"/>
            <a:ext cx="504720" cy="815040"/>
            <a:chOff x="5981760" y="4154400"/>
            <a:chExt cx="504720" cy="815040"/>
          </a:xfrm>
        </p:grpSpPr>
        <p:sp>
          <p:nvSpPr>
            <p:cNvPr id="1745" name="文本框 24623"/>
            <p:cNvSpPr/>
            <p:nvPr/>
          </p:nvSpPr>
          <p:spPr>
            <a:xfrm>
              <a:off x="5981760" y="4509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6" name="文本框 24624"/>
            <p:cNvSpPr/>
            <p:nvPr/>
          </p:nvSpPr>
          <p:spPr>
            <a:xfrm>
              <a:off x="5989320" y="415440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7" name="直接连接符 24625"/>
            <p:cNvSpPr/>
            <p:nvPr/>
          </p:nvSpPr>
          <p:spPr>
            <a:xfrm>
              <a:off x="6048360" y="457344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矩形 25601"/>
          <p:cNvSpPr/>
          <p:nvPr/>
        </p:nvSpPr>
        <p:spPr>
          <a:xfrm>
            <a:off x="833400" y="1413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面的说法对不对？为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     与     的乘积为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所以      和     互为倒数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49" name="组合 25602"/>
          <p:cNvGrpSpPr/>
          <p:nvPr/>
        </p:nvGrpSpPr>
        <p:grpSpPr>
          <a:xfrm>
            <a:off x="1687680" y="1944720"/>
            <a:ext cx="504720" cy="815400"/>
            <a:chOff x="1687680" y="1944720"/>
            <a:chExt cx="504720" cy="815400"/>
          </a:xfrm>
        </p:grpSpPr>
        <p:sp>
          <p:nvSpPr>
            <p:cNvPr id="1750" name="文本框 25603"/>
            <p:cNvSpPr/>
            <p:nvPr/>
          </p:nvSpPr>
          <p:spPr>
            <a:xfrm>
              <a:off x="1687680" y="2300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1" name="文本框 25604"/>
            <p:cNvSpPr/>
            <p:nvPr/>
          </p:nvSpPr>
          <p:spPr>
            <a:xfrm>
              <a:off x="1776600" y="1944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2" name="直接连接符 25605"/>
            <p:cNvSpPr/>
            <p:nvPr/>
          </p:nvSpPr>
          <p:spPr>
            <a:xfrm>
              <a:off x="1754280" y="23637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53" name="组合 25606"/>
          <p:cNvGrpSpPr/>
          <p:nvPr/>
        </p:nvGrpSpPr>
        <p:grpSpPr>
          <a:xfrm>
            <a:off x="2316240" y="1951200"/>
            <a:ext cx="586800" cy="815040"/>
            <a:chOff x="2316240" y="1951200"/>
            <a:chExt cx="586800" cy="815040"/>
          </a:xfrm>
        </p:grpSpPr>
        <p:sp>
          <p:nvSpPr>
            <p:cNvPr id="1754" name="文本框 25607"/>
            <p:cNvSpPr/>
            <p:nvPr/>
          </p:nvSpPr>
          <p:spPr>
            <a:xfrm>
              <a:off x="2398320" y="2306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5" name="文本框 25608"/>
            <p:cNvSpPr/>
            <p:nvPr/>
          </p:nvSpPr>
          <p:spPr>
            <a:xfrm>
              <a:off x="2316240" y="195120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6" name="直接连接符 25609"/>
            <p:cNvSpPr/>
            <p:nvPr/>
          </p:nvSpPr>
          <p:spPr>
            <a:xfrm>
              <a:off x="2379240" y="23698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57" name="组合 25610"/>
          <p:cNvGrpSpPr/>
          <p:nvPr/>
        </p:nvGrpSpPr>
        <p:grpSpPr>
          <a:xfrm>
            <a:off x="4648320" y="1946160"/>
            <a:ext cx="504720" cy="815400"/>
            <a:chOff x="4648320" y="1946160"/>
            <a:chExt cx="504720" cy="815400"/>
          </a:xfrm>
        </p:grpSpPr>
        <p:sp>
          <p:nvSpPr>
            <p:cNvPr id="1758" name="文本框 25611"/>
            <p:cNvSpPr/>
            <p:nvPr/>
          </p:nvSpPr>
          <p:spPr>
            <a:xfrm>
              <a:off x="4648320" y="23018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9" name="文本框 25612"/>
            <p:cNvSpPr/>
            <p:nvPr/>
          </p:nvSpPr>
          <p:spPr>
            <a:xfrm>
              <a:off x="4737240" y="1946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0" name="直接连接符 25613"/>
            <p:cNvSpPr/>
            <p:nvPr/>
          </p:nvSpPr>
          <p:spPr>
            <a:xfrm>
              <a:off x="4714920" y="23652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61" name="组合 25614"/>
          <p:cNvGrpSpPr/>
          <p:nvPr/>
        </p:nvGrpSpPr>
        <p:grpSpPr>
          <a:xfrm>
            <a:off x="5295960" y="1952640"/>
            <a:ext cx="586800" cy="815400"/>
            <a:chOff x="5295960" y="1952640"/>
            <a:chExt cx="586800" cy="815400"/>
          </a:xfrm>
        </p:grpSpPr>
        <p:sp>
          <p:nvSpPr>
            <p:cNvPr id="1762" name="文本框 25615"/>
            <p:cNvSpPr/>
            <p:nvPr/>
          </p:nvSpPr>
          <p:spPr>
            <a:xfrm>
              <a:off x="5378040" y="2308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3" name="文本框 25616"/>
            <p:cNvSpPr/>
            <p:nvPr/>
          </p:nvSpPr>
          <p:spPr>
            <a:xfrm>
              <a:off x="5295960" y="195264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4" name="直接连接符 25617"/>
            <p:cNvSpPr/>
            <p:nvPr/>
          </p:nvSpPr>
          <p:spPr>
            <a:xfrm>
              <a:off x="5358960" y="237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65" name="矩形 25618"/>
          <p:cNvSpPr/>
          <p:nvPr/>
        </p:nvSpPr>
        <p:spPr>
          <a:xfrm>
            <a:off x="1068480" y="3973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一个数的倒数一定比这个数小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66" name="组合 25619"/>
          <p:cNvGrpSpPr/>
          <p:nvPr/>
        </p:nvGrpSpPr>
        <p:grpSpPr>
          <a:xfrm>
            <a:off x="669600" y="2665440"/>
            <a:ext cx="7175160" cy="839160"/>
            <a:chOff x="669600" y="2665440"/>
            <a:chExt cx="7175160" cy="839160"/>
          </a:xfrm>
        </p:grpSpPr>
        <p:sp>
          <p:nvSpPr>
            <p:cNvPr id="1767" name="矩形 25620"/>
            <p:cNvSpPr/>
            <p:nvPr/>
          </p:nvSpPr>
          <p:spPr>
            <a:xfrm>
              <a:off x="669600" y="2851200"/>
              <a:ext cx="717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，所以   、   、  互为倒数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68" name="组合 25621"/>
            <p:cNvGrpSpPr/>
            <p:nvPr/>
          </p:nvGrpSpPr>
          <p:grpSpPr>
            <a:xfrm>
              <a:off x="1792440" y="2689200"/>
              <a:ext cx="2151000" cy="815400"/>
              <a:chOff x="1792440" y="2689200"/>
              <a:chExt cx="2151000" cy="815400"/>
            </a:xfrm>
          </p:grpSpPr>
          <p:sp>
            <p:nvSpPr>
              <p:cNvPr id="1769" name="Text Box 8"/>
              <p:cNvSpPr/>
              <p:nvPr/>
            </p:nvSpPr>
            <p:spPr>
              <a:xfrm>
                <a:off x="2089080" y="2921040"/>
                <a:ext cx="33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宋体"/>
                  </a:rPr>
                  <a:t>×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70" name="组合 25623"/>
              <p:cNvGrpSpPr/>
              <p:nvPr/>
            </p:nvGrpSpPr>
            <p:grpSpPr>
              <a:xfrm>
                <a:off x="2484360" y="2689200"/>
                <a:ext cx="504720" cy="815400"/>
                <a:chOff x="2484360" y="2689200"/>
                <a:chExt cx="504720" cy="815400"/>
              </a:xfrm>
            </p:grpSpPr>
            <p:sp>
              <p:nvSpPr>
                <p:cNvPr id="1771" name="文本框 25624"/>
                <p:cNvSpPr/>
                <p:nvPr/>
              </p:nvSpPr>
              <p:spPr>
                <a:xfrm>
                  <a:off x="2484360" y="30448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2" name="文本框 25625"/>
                <p:cNvSpPr/>
                <p:nvPr/>
              </p:nvSpPr>
              <p:spPr>
                <a:xfrm>
                  <a:off x="2487240" y="26892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3" name="直接连接符 25626"/>
                <p:cNvSpPr/>
                <p:nvPr/>
              </p:nvSpPr>
              <p:spPr>
                <a:xfrm>
                  <a:off x="2503080" y="31082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74" name="组合 25627"/>
              <p:cNvGrpSpPr/>
              <p:nvPr/>
            </p:nvGrpSpPr>
            <p:grpSpPr>
              <a:xfrm>
                <a:off x="1792440" y="2689200"/>
                <a:ext cx="504720" cy="815400"/>
                <a:chOff x="1792440" y="2689200"/>
                <a:chExt cx="504720" cy="815400"/>
              </a:xfrm>
            </p:grpSpPr>
            <p:sp>
              <p:nvSpPr>
                <p:cNvPr id="1775" name="文本框 25628"/>
                <p:cNvSpPr/>
                <p:nvPr/>
              </p:nvSpPr>
              <p:spPr>
                <a:xfrm>
                  <a:off x="1792440" y="30448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6" name="文本框 25629"/>
                <p:cNvSpPr/>
                <p:nvPr/>
              </p:nvSpPr>
              <p:spPr>
                <a:xfrm>
                  <a:off x="1795680" y="26892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7" name="直接连接符 25630"/>
                <p:cNvSpPr/>
                <p:nvPr/>
              </p:nvSpPr>
              <p:spPr>
                <a:xfrm>
                  <a:off x="1801800" y="31082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78" name="文本框 25631"/>
              <p:cNvSpPr/>
              <p:nvPr/>
            </p:nvSpPr>
            <p:spPr>
              <a:xfrm>
                <a:off x="2733840" y="283860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79" name="组合 25632"/>
              <p:cNvGrpSpPr/>
              <p:nvPr/>
            </p:nvGrpSpPr>
            <p:grpSpPr>
              <a:xfrm>
                <a:off x="3097080" y="2689200"/>
                <a:ext cx="504720" cy="815400"/>
                <a:chOff x="3097080" y="2689200"/>
                <a:chExt cx="504720" cy="815400"/>
              </a:xfrm>
            </p:grpSpPr>
            <p:sp>
              <p:nvSpPr>
                <p:cNvPr id="1780" name="文本框 25633"/>
                <p:cNvSpPr/>
                <p:nvPr/>
              </p:nvSpPr>
              <p:spPr>
                <a:xfrm>
                  <a:off x="3097080" y="30448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81" name="文本框 25634"/>
                <p:cNvSpPr/>
                <p:nvPr/>
              </p:nvSpPr>
              <p:spPr>
                <a:xfrm>
                  <a:off x="3099960" y="26892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82" name="直接连接符 25635"/>
                <p:cNvSpPr/>
                <p:nvPr/>
              </p:nvSpPr>
              <p:spPr>
                <a:xfrm>
                  <a:off x="3115800" y="31082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83" name="文本框 25636"/>
              <p:cNvSpPr/>
              <p:nvPr/>
            </p:nvSpPr>
            <p:spPr>
              <a:xfrm>
                <a:off x="3348000" y="2836800"/>
                <a:ext cx="59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84" name="组合 25637"/>
            <p:cNvGrpSpPr/>
            <p:nvPr/>
          </p:nvGrpSpPr>
          <p:grpSpPr>
            <a:xfrm>
              <a:off x="4730760" y="2670120"/>
              <a:ext cx="504720" cy="815400"/>
              <a:chOff x="4730760" y="2670120"/>
              <a:chExt cx="504720" cy="815400"/>
            </a:xfrm>
          </p:grpSpPr>
          <p:sp>
            <p:nvSpPr>
              <p:cNvPr id="1785" name="文本框 25638"/>
              <p:cNvSpPr/>
              <p:nvPr/>
            </p:nvSpPr>
            <p:spPr>
              <a:xfrm>
                <a:off x="4730760" y="3025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6" name="文本框 25639"/>
              <p:cNvSpPr/>
              <p:nvPr/>
            </p:nvSpPr>
            <p:spPr>
              <a:xfrm>
                <a:off x="4734000" y="2670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7" name="直接连接符 25640"/>
              <p:cNvSpPr/>
              <p:nvPr/>
            </p:nvSpPr>
            <p:spPr>
              <a:xfrm>
                <a:off x="4740120" y="30891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88" name="组合 25641"/>
            <p:cNvGrpSpPr/>
            <p:nvPr/>
          </p:nvGrpSpPr>
          <p:grpSpPr>
            <a:xfrm>
              <a:off x="5305680" y="2670120"/>
              <a:ext cx="504720" cy="815400"/>
              <a:chOff x="5305680" y="2670120"/>
              <a:chExt cx="504720" cy="815400"/>
            </a:xfrm>
          </p:grpSpPr>
          <p:sp>
            <p:nvSpPr>
              <p:cNvPr id="1789" name="文本框 25642"/>
              <p:cNvSpPr/>
              <p:nvPr/>
            </p:nvSpPr>
            <p:spPr>
              <a:xfrm>
                <a:off x="5305680" y="3025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0" name="文本框 25643"/>
              <p:cNvSpPr/>
              <p:nvPr/>
            </p:nvSpPr>
            <p:spPr>
              <a:xfrm>
                <a:off x="5308560" y="2670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1" name="直接连接符 25644"/>
              <p:cNvSpPr/>
              <p:nvPr/>
            </p:nvSpPr>
            <p:spPr>
              <a:xfrm>
                <a:off x="5324400" y="3089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92" name="组合 25645"/>
            <p:cNvGrpSpPr/>
            <p:nvPr/>
          </p:nvGrpSpPr>
          <p:grpSpPr>
            <a:xfrm>
              <a:off x="5888160" y="2665440"/>
              <a:ext cx="504720" cy="815040"/>
              <a:chOff x="5888160" y="2665440"/>
              <a:chExt cx="504720" cy="815040"/>
            </a:xfrm>
          </p:grpSpPr>
          <p:sp>
            <p:nvSpPr>
              <p:cNvPr id="1793" name="文本框 25646"/>
              <p:cNvSpPr/>
              <p:nvPr/>
            </p:nvSpPr>
            <p:spPr>
              <a:xfrm>
                <a:off x="5888160" y="3020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4" name="文本框 25647"/>
              <p:cNvSpPr/>
              <p:nvPr/>
            </p:nvSpPr>
            <p:spPr>
              <a:xfrm>
                <a:off x="5891040" y="2665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5" name="直接连接符 25648"/>
              <p:cNvSpPr/>
              <p:nvPr/>
            </p:nvSpPr>
            <p:spPr>
              <a:xfrm>
                <a:off x="5906880" y="30841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796" name="矩形 25649"/>
          <p:cNvSpPr/>
          <p:nvPr/>
        </p:nvSpPr>
        <p:spPr>
          <a:xfrm>
            <a:off x="1312200" y="350028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倒数还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2"/>
          <p:cNvSpPr/>
          <p:nvPr/>
        </p:nvSpPr>
        <p:spPr>
          <a:xfrm>
            <a:off x="414360" y="4357800"/>
            <a:ext cx="8825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你认为谁说得对，说明你的理由。（小红说得对。乘积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两个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数就互为倒数，这两个数可以是分数，也可以是小数或整数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99" name="图片 26626" descr="29"/>
          <p:cNvPicPr/>
          <p:nvPr/>
        </p:nvPicPr>
        <p:blipFill>
          <a:blip r:embed="rId1"/>
          <a:stretch/>
        </p:blipFill>
        <p:spPr>
          <a:xfrm>
            <a:off x="684360" y="2205000"/>
            <a:ext cx="7553160" cy="1800360"/>
          </a:xfrm>
          <a:prstGeom prst="rect">
            <a:avLst/>
          </a:prstGeom>
          <a:ln w="0">
            <a:noFill/>
          </a:ln>
        </p:spPr>
      </p:pic>
      <p:sp>
        <p:nvSpPr>
          <p:cNvPr id="1800" name="矩形 26627"/>
          <p:cNvSpPr/>
          <p:nvPr/>
        </p:nvSpPr>
        <p:spPr>
          <a:xfrm>
            <a:off x="828720" y="15606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红和小亮谁说得对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6:32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